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907588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711000" y="762120"/>
            <a:ext cx="5283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3367-CB65-4138-92E3-DB8B0F33DD1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711360" y="762120"/>
            <a:ext cx="5283000" cy="36576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進口貨櫃控管系統改進方案簡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報告人：基隆關稅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九十年三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711360" y="762120"/>
            <a:ext cx="5283000" cy="36576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伍、可行替代方案比較（一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一、甲案：集中式資料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建置「貨櫃動態查核系統」（「櫃動系統」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在通關網路建置「貨櫃動態資料庫」（「櫃動庫」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基港局在碼頭建置管制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下列貨櫃動態資料訊息傳輸「櫃動庫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海關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GDP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（在通關系統核發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港務局碼管站：出管制站時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集散站：進站、拆櫃、出站時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透過通關網路運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四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有異常狀況，於規定時限內通告海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711360" y="762120"/>
            <a:ext cx="5283000" cy="36576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陸、「櫃動系統」規劃之運作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二、訂定傳輸訊息統一規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海關傳輸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及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至櫃動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港務局、集散站傳輸進、出站時間至櫃動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港務局、集散站傳輸異常狀況通告至海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三、訂定異常狀況通告規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四、港務局建置碼頭管制站軟硬體設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五、海關在通關系統核發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圖片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貨櫃機動稽核、抽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貨櫃卸船作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711360" y="762120"/>
            <a:ext cx="5283000" cy="36576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壹、    緣                       起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貳、「貨控系統」之運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參、「貨控系統」存在之問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肆、「貨控系統」存廢之探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伍、可 行 替 代 方 案 比 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陸、「櫃動系統」規劃之運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柒、建置「櫃動系統」預定時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捌、    結                        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711360" y="762120"/>
            <a:ext cx="5283000" cy="36576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壹、緣起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一、貨櫃控管之目的─防止漏稅與走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二、進口貨櫃控管範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實櫃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卸船→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集散站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拆櫃進倉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ＣＦＳ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卸船 →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集散站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貨物放行，領櫃出站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ＣＹ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空櫃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卸船→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碼頭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出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圖片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進口櫃在碼頭大門排隊等候辦理出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進口貨櫃出站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基隆港第一貨櫃中心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711360" y="762120"/>
            <a:ext cx="5283000" cy="36576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捌、結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一、本替代方案經邀請基隆港務局、輪船公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會、船務代理公會、貨櫃儲運協會、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貿網路公司等單位會商「  意」在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二、正籌組「推行小組」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三、本案推行時程已甚緊逼，亟待早日核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圖片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基隆港第三貨櫃中心大門管制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基隆港第二貨櫃中心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CY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重櫃儲運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711360" y="762120"/>
            <a:ext cx="5283000" cy="36576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柒、建置「櫃動系統」預定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711360" y="762120"/>
            <a:ext cx="5283000" cy="36576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仿宋體"/>
              </a:rPr>
              <a:t>陸、「櫃動系統」規劃之運作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仿宋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仿宋體"/>
              </a:rPr>
              <a:t>四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仿宋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六、進口「貨櫃動態查核系統」流程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711360" y="762120"/>
            <a:ext cx="5283000" cy="36576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貳、「貨控系統」之運作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一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一、軟硬體設備由海關購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配置於碼頭管制站、貨櫃集散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海關派員駐碼頭管制站操作控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關員駐集散站操作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夜、休：業者代辦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二、範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卸船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加封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出管站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進集散站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轉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）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拆櫃（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CFS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）或放行出集散站（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CY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711360" y="762120"/>
            <a:ext cx="5283000" cy="36576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參、「貨控系統」存在之問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一、集散站各有控管系統，「貨控系統」與其重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二、機器老舊，線路品質不佳，故障頻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在過去一年間，大小故障超過二００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實施六年，書面文件始終無法取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淪為批次作業，「即時追蹤」精神盪然無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三、原設計作業項目達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項，惟目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實際僅做「進、出站作業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四、屬封閉式系統，無法與他系統流通，無法與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者共享資 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五、集散站自主管理者，已無駐站關員可操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711360" y="762120"/>
            <a:ext cx="5283000" cy="36576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肆、「貨控系統」存廢探討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一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一、與康大公司合約期滿（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90.11.14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）後宜廢止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現存問題太多，難以克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「廢止」為多次會議出席代表之共識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基隆局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89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6/15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8/29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9/19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會議結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總局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89/11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核示：原則同意，研議替代方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圖片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司機在管制室窗口辦理出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關員穿梭於車陣中檢視封條是否固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711360" y="762120"/>
            <a:ext cx="5283000" cy="36576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肆、「貨控系統」存廢探討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二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富漢通中仿宋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二、替代方案走向探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准單核發、查緝註記等，宜併入「貨物通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自動化系統」（基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89/6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硬體之建置應朝「開放性架構」（基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89/9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應包括轉運、轉口貨櫃之控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四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以「查核」替代「控管」，讓業者自主管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圖片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理貨員核銷貨櫃清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進口重櫃於管制站前停車接受檢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174F-342A-4E98-A088-45E32448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234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440" y="3986640"/>
            <a:ext cx="8234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90D5-3245-410B-8F2F-D6CABA43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5000" y="152352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98664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05000" y="398664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91F9D-1D51-426E-858B-A72ABD16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65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69320" y="1523520"/>
            <a:ext cx="265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53560" y="1523520"/>
            <a:ext cx="265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440" y="3986640"/>
            <a:ext cx="265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469320" y="3986640"/>
            <a:ext cx="265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53560" y="3986640"/>
            <a:ext cx="265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1FD0-BC4B-4103-B62A-E1F2FB42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723B-55D3-4B95-AEEE-ACCE78DA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8234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C4D6-AA04-4F63-8AFE-B8BECA27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2342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54BC-A437-4732-9D3D-5D9BC351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4018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05000" y="1523520"/>
            <a:ext cx="4018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1E25-5D24-4013-A1C3-A0DD37FA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ADE9-CC6B-43C1-85B4-180BB3C3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234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EF9F-478E-4BF9-BACC-697F19DD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05000" y="1523520"/>
            <a:ext cx="4018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440" y="398664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5AC0-83E7-4747-BFA6-61186D0C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8234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D0559-1CF8-4F6D-9DB6-9C4E446E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4018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05000" y="152352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05000" y="398664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01B6-8B95-4269-8DC0-2DD57984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05000" y="152352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440" y="3986640"/>
            <a:ext cx="8234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B887-BC30-4ED8-A08D-EEF75804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234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440" y="3986640"/>
            <a:ext cx="8234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7407-736E-410E-AC2D-4AC9AFC1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05000" y="152352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440" y="398664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05000" y="398664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09CF-4186-40C6-B861-23309DDF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65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69320" y="1523520"/>
            <a:ext cx="265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53560" y="1523520"/>
            <a:ext cx="265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440" y="3986640"/>
            <a:ext cx="265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469320" y="3986640"/>
            <a:ext cx="265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53560" y="3986640"/>
            <a:ext cx="265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9112-2809-4E08-AC19-467340C1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2342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59F47-3DEF-4815-89EA-F1F8024D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4018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05000" y="1523520"/>
            <a:ext cx="4018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B2A67-C131-4072-B315-C2C75E8C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7CDD0-2235-4852-B8D8-4670DFBE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234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58C6-3DE6-445F-8BAE-D63604DA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05000" y="1523520"/>
            <a:ext cx="4018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440" y="398664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261A6-2D49-4D03-82A3-EAFCE693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4018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5000" y="152352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05000" y="398664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5113-FEDD-49EB-80B0-BD841498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5000" y="1523520"/>
            <a:ext cx="40183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86640"/>
            <a:ext cx="8234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1728-E858-442C-815D-8EA9748C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82342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999933"/>
              </a:buClr>
              <a:buFont typeface="Arial"/>
              <a:buChar char="壹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999933"/>
              </a:buClr>
              <a:buFont typeface="Arial"/>
              <a:buChar char="壹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999933"/>
              </a:buClr>
              <a:buFont typeface="Arial"/>
              <a:buChar char="壹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999933"/>
              </a:buClr>
              <a:buFont typeface="Arial"/>
              <a:buChar char="壹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333300"/>
              </a:buClr>
              <a:buFont typeface="Arial"/>
              <a:buChar char="壹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333300"/>
              </a:buClr>
              <a:buFont typeface="Arial"/>
              <a:buChar char="壹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17960" y="6319800"/>
            <a:ext cx="218736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448240" y="6319800"/>
            <a:ext cx="160488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533520" cy="6878520"/>
            <a:chOff x="0" y="0"/>
            <a:chExt cx="533520" cy="6878520"/>
          </a:xfrm>
        </p:grpSpPr>
        <p:sp>
          <p:nvSpPr>
            <p:cNvPr id="5" name=""/>
            <p:cNvSpPr/>
            <p:nvPr/>
          </p:nvSpPr>
          <p:spPr>
            <a:xfrm>
              <a:off x="246240" y="3423960"/>
              <a:ext cx="61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1202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0600" y="3423960"/>
              <a:ext cx="1256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8160" y="3438360"/>
              <a:ext cx="1108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0600" y="4194000"/>
              <a:ext cx="18684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20600" y="4625640"/>
              <a:ext cx="18684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0600" y="5033880"/>
              <a:ext cx="18684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20600" y="5438520"/>
              <a:ext cx="18684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0600" y="5846760"/>
              <a:ext cx="18684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3440" y="6251400"/>
              <a:ext cx="14400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0600" y="3765240"/>
              <a:ext cx="18684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0600" y="3423960"/>
              <a:ext cx="18828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6240" y="4680"/>
              <a:ext cx="61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1202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0600" y="4680"/>
              <a:ext cx="1256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08160" y="4680"/>
              <a:ext cx="1108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0600" y="798480"/>
              <a:ext cx="18684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0600" y="1206360"/>
              <a:ext cx="18684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20600" y="1612800"/>
              <a:ext cx="18684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20600" y="2019240"/>
              <a:ext cx="18684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20600" y="2425680"/>
              <a:ext cx="18684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19160" y="6642000"/>
              <a:ext cx="18972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0600" y="344160"/>
              <a:ext cx="18684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20600" y="4680"/>
              <a:ext cx="18828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21680" y="0"/>
              <a:ext cx="8352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20600" y="2860560"/>
              <a:ext cx="18684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19400" y="9360"/>
              <a:ext cx="11412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308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50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PlaceHolder 5"/>
          <p:cNvSpPr>
            <a:spLocks noGrp="1"/>
          </p:cNvSpPr>
          <p:nvPr>
            <p:ph type="dt" idx="3"/>
          </p:nvPr>
        </p:nvSpPr>
        <p:spPr>
          <a:xfrm>
            <a:off x="1440000" y="6319440"/>
            <a:ext cx="152712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" name="m_ftitle" descr=""/>
          <p:cNvPicPr/>
          <p:nvPr/>
        </p:nvPicPr>
        <p:blipFill>
          <a:blip r:embed="rId2"/>
          <a:stretch/>
        </p:blipFill>
        <p:spPr>
          <a:xfrm>
            <a:off x="8915400" y="5715000"/>
            <a:ext cx="847800" cy="961920"/>
          </a:xfrm>
          <a:prstGeom prst="rect">
            <a:avLst/>
          </a:prstGeom>
          <a:ln w="0">
            <a:noFill/>
          </a:ln>
        </p:spPr>
      </p:pic>
      <p:sp>
        <p:nvSpPr>
          <p:cNvPr id="36" name=""/>
          <p:cNvSpPr/>
          <p:nvPr/>
        </p:nvSpPr>
        <p:spPr>
          <a:xfrm>
            <a:off x="8376480" y="2286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668F-779D-4B10-8B5C-F0D55B57435E}" type="slidenum">
              <a:rPr b="0" lang="zh-TW" sz="3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1371600"/>
            <a:ext cx="693756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3053880" y="54100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643200" y="631980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934320" y="6330960"/>
            <a:ext cx="160488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9DD6-CE9E-4D95-B279-50450290BBD2}" type="slidenum"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0"/>
            <a:ext cx="609480" cy="6878520"/>
            <a:chOff x="0" y="0"/>
            <a:chExt cx="609480" cy="6878520"/>
          </a:xfrm>
        </p:grpSpPr>
        <p:sp>
          <p:nvSpPr>
            <p:cNvPr id="78" name=""/>
            <p:cNvSpPr/>
            <p:nvPr/>
          </p:nvSpPr>
          <p:spPr>
            <a:xfrm>
              <a:off x="281520" y="3423960"/>
              <a:ext cx="7056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423960"/>
              <a:ext cx="13716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7880" y="3423960"/>
              <a:ext cx="143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080" y="3438360"/>
              <a:ext cx="12672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7880" y="4194000"/>
              <a:ext cx="21348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880" y="4625640"/>
              <a:ext cx="21348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7880" y="5033880"/>
              <a:ext cx="21348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7880" y="5438520"/>
              <a:ext cx="21348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7880" y="5846760"/>
              <a:ext cx="21348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6840" y="6251400"/>
              <a:ext cx="16452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7880" y="3765240"/>
              <a:ext cx="21348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880" y="3423960"/>
              <a:ext cx="21492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520" y="4680"/>
              <a:ext cx="7056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4680"/>
              <a:ext cx="13716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7880" y="4680"/>
              <a:ext cx="143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080" y="4680"/>
              <a:ext cx="126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7880" y="798480"/>
              <a:ext cx="21348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7880" y="1206360"/>
              <a:ext cx="21348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7880" y="1612800"/>
              <a:ext cx="21348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7880" y="2019240"/>
              <a:ext cx="21348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880" y="2425680"/>
              <a:ext cx="21348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6080" y="6642000"/>
              <a:ext cx="21672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7880" y="344160"/>
              <a:ext cx="21348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880" y="4680"/>
              <a:ext cx="21492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8960" y="0"/>
              <a:ext cx="9540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880" y="2860560"/>
              <a:ext cx="21348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9160" y="9360"/>
              <a:ext cx="13032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52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068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pic>
        <p:nvPicPr>
          <p:cNvPr id="107" name="m_ftitle" descr=""/>
          <p:cNvPicPr/>
          <p:nvPr/>
        </p:nvPicPr>
        <p:blipFill>
          <a:blip r:embed="rId2"/>
          <a:stretch/>
        </p:blipFill>
        <p:spPr>
          <a:xfrm>
            <a:off x="8915400" y="5715000"/>
            <a:ext cx="847800" cy="961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33440" algn="ctr">
              <a:spcBef>
                <a:spcPts val="499"/>
              </a:spcBef>
              <a:buClr>
                <a:srgbClr val="999933"/>
              </a:buClr>
              <a:buFont typeface="Arial"/>
              <a:buChar char="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752480" algn="ctr">
              <a:spcBef>
                <a:spcPts val="499"/>
              </a:spcBef>
              <a:buClr>
                <a:srgbClr val="999933"/>
              </a:buClr>
              <a:buFont typeface="Arial"/>
              <a:buChar char="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752480">
              <a:spcBef>
                <a:spcPts val="499"/>
              </a:spcBef>
              <a:buClr>
                <a:srgbClr val="333300"/>
              </a:buClr>
              <a:buFont typeface="Arial"/>
              <a:buChar char="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752480">
              <a:spcBef>
                <a:spcPts val="499"/>
              </a:spcBef>
              <a:buClr>
                <a:srgbClr val="333300"/>
              </a:buClr>
              <a:buFont typeface="Arial"/>
              <a:buChar char="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352680" y="46483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標楷體"/>
              </a:rPr>
              <a:t>報告人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標楷體"/>
              </a:rPr>
              <a:t>基隆關稅局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標楷體"/>
              </a:rPr>
              <a:t>九十年九月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304560" y="1066680"/>
            <a:ext cx="92962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cc0000"/>
                </a:solidFill>
                <a:latin typeface="Times New Roman"/>
              </a:rPr>
              <a:t>櫃動庫作業與流程簡  報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標楷體"/>
              </a:rPr>
              <a:t>伍、進口貨櫃動態查核系統</a:t>
            </a:r>
            <a:r>
              <a:rPr b="1" lang="zh-TW" sz="2400" spc="-1" strike="noStrike">
                <a:solidFill>
                  <a:srgbClr val="333300"/>
                </a:solidFill>
                <a:latin typeface="標楷體"/>
              </a:rPr>
              <a:t>(</a:t>
            </a:r>
            <a:r>
              <a:rPr b="1" lang="zh-TW" sz="2400" spc="-1" strike="noStrike">
                <a:solidFill>
                  <a:srgbClr val="333300"/>
                </a:solidFill>
                <a:latin typeface="標楷體"/>
              </a:rPr>
              <a:t>三</a:t>
            </a:r>
            <a:r>
              <a:rPr b="1" lang="zh-TW" sz="2400" spc="-1" strike="noStrike">
                <a:solidFill>
                  <a:srgbClr val="333300"/>
                </a:solidFill>
                <a:latin typeface="標楷體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91821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7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九、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D8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外貨進儲保稅倉庫作業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857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十、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L1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外貨進儲物流中心作業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857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十一、備援措施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657600" y="2514600"/>
            <a:ext cx="5119560" cy="384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EBF5-B567-4679-9894-69DD3DFDFEF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標楷體"/>
              </a:rPr>
              <a:t>陸、倉儲業者站內控管系統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8769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一、貨櫃卸船進儲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二、貨櫃出站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三、轉運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口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貨櫃出站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四、轉運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口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貨櫃進站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五、海上走廊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六、空貨櫃卸船、出站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cc0000"/>
                </a:solidFill>
                <a:latin typeface="標楷體"/>
                <a:ea typeface="標楷體"/>
              </a:rPr>
              <a:t>出站傳動態至櫃動庫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七、換櫃或更改櫃號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8" name="三中心1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480060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44FD1-0356-4940-B978-004566CC961A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37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Times New Roman"/>
              </a:rPr>
              <a:t>柒、貨櫃動態訊息傳輸流程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一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04760" y="2906640"/>
            <a:ext cx="63684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A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4560" y="2544840"/>
            <a:ext cx="957240" cy="4824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關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44560" y="3389400"/>
            <a:ext cx="957240" cy="4824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核准卸船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5158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98840" y="2906640"/>
            <a:ext cx="6364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K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73600" y="2906640"/>
            <a:ext cx="63792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F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29040" y="2786040"/>
            <a:ext cx="957240" cy="723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拆櫃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3320" y="2906640"/>
            <a:ext cx="6364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F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58080" y="2906640"/>
            <a:ext cx="6382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X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41600" y="3147840"/>
            <a:ext cx="95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389400"/>
            <a:ext cx="95724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出管制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41600" y="4113360"/>
            <a:ext cx="63792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P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98840" y="4113360"/>
            <a:ext cx="6364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" rIns="18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FY/AB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82840" y="4595760"/>
            <a:ext cx="95544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准單異動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關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917800" y="338904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4595760"/>
            <a:ext cx="1117800" cy="965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換櫃或改封條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14840" y="3389400"/>
            <a:ext cx="95544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進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73600" y="4113360"/>
            <a:ext cx="63792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" rIns="18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FY/AB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14840" y="4595760"/>
            <a:ext cx="1117440" cy="1085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換櫃或改封條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內陸貨櫃集散站或加工區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192560" y="338904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35320" y="3162240"/>
            <a:ext cx="6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05320" y="2362320"/>
            <a:ext cx="1600200" cy="4824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內陸貨櫃集散站或加工區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11520" y="314784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83320" y="4113360"/>
            <a:ext cx="6364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Z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08560" y="435456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08560" y="351000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86280" y="3147840"/>
            <a:ext cx="79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19800" y="3147840"/>
            <a:ext cx="6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23120" y="2544840"/>
            <a:ext cx="957240" cy="4824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關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3800" y="2362320"/>
            <a:ext cx="1600200" cy="4824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內陸貨櫃集散站或加工區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23120" y="4595760"/>
            <a:ext cx="1117440" cy="965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CFS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拆櫃結案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內陸貨櫃集散站或加工區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23120" y="3389400"/>
            <a:ext cx="957240" cy="4824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放行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5116S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9320" y="3389400"/>
            <a:ext cx="106380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CY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提領結案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5040" y="2786040"/>
            <a:ext cx="47808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Ｎ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3751200"/>
            <a:ext cx="47772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2286000"/>
            <a:ext cx="152388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Arial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cc"/>
                </a:solidFill>
                <a:latin typeface="Arial"/>
                <a:ea typeface="標楷體"/>
              </a:rPr>
              <a:t>內陸貨櫃集散站作業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981080" y="3124080"/>
            <a:ext cx="0" cy="990720"/>
          </a:xfrm>
          <a:prstGeom prst="line">
            <a:avLst/>
          </a:prstGeom>
          <a:ln cap="sq" w="12600">
            <a:solidFill>
              <a:srgbClr val="33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C7F75-7BCD-4BD3-AC86-F013744714D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Times New Roman"/>
              </a:rPr>
              <a:t>柒、貨櫃動態訊息傳輸流程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二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58960" y="2830680"/>
            <a:ext cx="63792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A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16200" y="2830680"/>
            <a:ext cx="6364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FI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0200" y="2468520"/>
            <a:ext cx="95544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關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0200" y="3313080"/>
            <a:ext cx="95544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核准卸船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5158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5640" y="2347920"/>
            <a:ext cx="116388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65720" y="2709720"/>
            <a:ext cx="955440" cy="723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拆櫃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2819520"/>
            <a:ext cx="6382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F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62920" y="2819520"/>
            <a:ext cx="6364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X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5640" y="3313080"/>
            <a:ext cx="957240" cy="603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卸運入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封條確認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30481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55640" y="4037040"/>
            <a:ext cx="6382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P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71640" y="4037040"/>
            <a:ext cx="6382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" rIns="18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FY/AB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96880" y="4519440"/>
            <a:ext cx="95580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准單異動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關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974960" y="331272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133720" y="3312720"/>
            <a:ext cx="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12880" y="4519440"/>
            <a:ext cx="1117800" cy="722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換櫃或改封條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18200" y="4037040"/>
            <a:ext cx="6382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Z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43440" y="427824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43440" y="343368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21160" y="3071880"/>
            <a:ext cx="79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59440" y="2468520"/>
            <a:ext cx="95580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關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15240" y="2347920"/>
            <a:ext cx="123804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59440" y="4519440"/>
            <a:ext cx="1355760" cy="722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CFS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拆櫃結案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9440" y="3313080"/>
            <a:ext cx="95580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放行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5116S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3313080"/>
            <a:ext cx="114300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CY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提領結案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1720" y="2709720"/>
            <a:ext cx="47772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Ｎ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84680" y="3675240"/>
            <a:ext cx="47772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3809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380988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3880" y="3048120"/>
            <a:ext cx="304920" cy="0"/>
          </a:xfrm>
          <a:prstGeom prst="line">
            <a:avLst/>
          </a:prstGeom>
          <a:ln cap="sq" w="9360">
            <a:solidFill>
              <a:srgbClr val="33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0572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Arial"/>
                <a:ea typeface="標楷體"/>
              </a:rPr>
              <a:t>原碼頭貨櫃集散站放行提領作業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1721E-4A48-445A-B175-F29F1908BA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Times New Roman"/>
              </a:rPr>
              <a:t>柒、貨櫃動態訊息傳輸流程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三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65320" y="2876400"/>
            <a:ext cx="6364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A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05120" y="2514600"/>
            <a:ext cx="95724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關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5120" y="3359160"/>
            <a:ext cx="95724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核准卸船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5158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95880" y="2876400"/>
            <a:ext cx="63792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F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72080" y="2876400"/>
            <a:ext cx="6364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W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01800" y="3117960"/>
            <a:ext cx="159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81320" y="4083120"/>
            <a:ext cx="6364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P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21120" y="4565520"/>
            <a:ext cx="95724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艙單異動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關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498840" y="3117600"/>
            <a:ext cx="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33800" y="3117960"/>
            <a:ext cx="6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37120" y="2514600"/>
            <a:ext cx="95544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關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11880" y="2394000"/>
            <a:ext cx="1522440" cy="7239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、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37120" y="3359160"/>
            <a:ext cx="95544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放行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5116S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1880" y="3359160"/>
            <a:ext cx="106524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CY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船提結案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962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Arial"/>
                <a:ea typeface="標楷體"/>
              </a:rPr>
              <a:t>原碼頭船邊提領作業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B656-AB44-48E9-8339-B27F57967B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Times New Roman"/>
              </a:rPr>
              <a:t>柒、貨櫃動態訊息傳輸流程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四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27400" y="2768760"/>
            <a:ext cx="6364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A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66840" y="2406600"/>
            <a:ext cx="95724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關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66840" y="3251160"/>
            <a:ext cx="95724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核准卸船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5158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43400" y="2768760"/>
            <a:ext cx="6364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ES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63880" y="3009960"/>
            <a:ext cx="47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43400" y="3975120"/>
            <a:ext cx="6364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P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82840" y="4457880"/>
            <a:ext cx="957240" cy="4824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艙單異動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關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760920" y="32508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2286000"/>
            <a:ext cx="167652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82840" y="3371760"/>
            <a:ext cx="95724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空櫃出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133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Arial"/>
                <a:ea typeface="標楷體"/>
              </a:rPr>
              <a:t>空櫃出站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38" name="陽明2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4483080" cy="30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4D6CB-3616-46F9-86E6-47401F4177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Times New Roman"/>
              </a:rPr>
              <a:t>柒、貨櫃動態訊息傳輸流程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五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35080" y="2830680"/>
            <a:ext cx="6382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T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51080" y="2830680"/>
            <a:ext cx="6382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K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22880" y="2709720"/>
            <a:ext cx="957240" cy="723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拆櫃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16120" y="2468520"/>
            <a:ext cx="111600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關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73840" y="2830680"/>
            <a:ext cx="6364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F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29640" y="2830680"/>
            <a:ext cx="63792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X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3313080"/>
            <a:ext cx="133020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T1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轉運准單放行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5302S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92320" y="3313080"/>
            <a:ext cx="95580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出管制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51080" y="4037040"/>
            <a:ext cx="6382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" rIns="18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FY/AB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32120" y="4519440"/>
            <a:ext cx="1277640" cy="10861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換櫃或改封條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、內陸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570040" y="331272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73360" y="307188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32120" y="2106720"/>
            <a:ext cx="1274760" cy="7239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、內陸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89360" y="307188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19560" y="4037040"/>
            <a:ext cx="6382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Z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427824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00600" y="343368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80120" y="307188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13640" y="2468520"/>
            <a:ext cx="95724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關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70880" y="2106720"/>
            <a:ext cx="1320840" cy="8445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碼頭、內陸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60800" y="4519440"/>
            <a:ext cx="1117800" cy="10861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拆櫃結案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碼頭、內陸貨櫃集散站或加工區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13640" y="3313080"/>
            <a:ext cx="95724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放行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5116S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70880" y="3313080"/>
            <a:ext cx="95544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提領結案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19560" y="2709720"/>
            <a:ext cx="47808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Ｎ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1840" y="3554280"/>
            <a:ext cx="47772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67080" y="2830680"/>
            <a:ext cx="6364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F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06880" y="3313080"/>
            <a:ext cx="95724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進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67080" y="4037040"/>
            <a:ext cx="6364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" rIns="18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FX/AB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06880" y="4519440"/>
            <a:ext cx="1441440" cy="1206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換櫃或改封條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碼頭、內陸貨櫃集散站或加工區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48120" y="2106720"/>
            <a:ext cx="1447560" cy="7239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碼頭、內陸貨櫃集散站或加工區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03560" y="3071880"/>
            <a:ext cx="3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686040" y="331272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8600" y="307188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597640" y="2709720"/>
            <a:ext cx="957240" cy="723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94320" y="4037040"/>
            <a:ext cx="6382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T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76800" y="343368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554880" y="307188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76800" y="4519440"/>
            <a:ext cx="1274760" cy="13273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轉運准單放行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5302S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94320" y="2709720"/>
            <a:ext cx="47952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Ｎ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16600" y="3554280"/>
            <a:ext cx="47772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76800" y="427824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032600" y="4278240"/>
            <a:ext cx="79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829640" y="4037040"/>
            <a:ext cx="63792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K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67560" y="427824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4519440"/>
            <a:ext cx="1371600" cy="8445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碼頭、內陸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97640" y="2951280"/>
            <a:ext cx="95724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二次轉運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T1 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轉運貨櫃陸上拖運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3048120"/>
            <a:ext cx="304920" cy="0"/>
          </a:xfrm>
          <a:prstGeom prst="line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08C0-5FB0-4150-8822-2AED354844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Times New Roman"/>
              </a:rPr>
              <a:t>柒、貨櫃動態訊息傳輸流程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六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7560" y="1371240"/>
            <a:ext cx="3276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T1 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海上走廊轉運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657600"/>
            <a:ext cx="6364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T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00200" y="3657600"/>
            <a:ext cx="6382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C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8000" y="3556080"/>
            <a:ext cx="957240" cy="723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拆櫃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520" y="3352680"/>
            <a:ext cx="111600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關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808760" y="3676680"/>
            <a:ext cx="6382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F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766000" y="3676680"/>
            <a:ext cx="63684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X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4114800"/>
            <a:ext cx="949320" cy="7239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T1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轉運准單放行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5302S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49520" y="3676680"/>
            <a:ext cx="6382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" rIns="18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D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49520" y="4159080"/>
            <a:ext cx="1117440" cy="8445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目的地卸船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00200" y="3352680"/>
            <a:ext cx="996840" cy="298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上走廊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87800" y="3917880"/>
            <a:ext cx="15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15040" y="4883040"/>
            <a:ext cx="6382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Z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96080" y="512460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96080" y="428004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9800" y="391788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447040" y="391788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50000" y="3314880"/>
            <a:ext cx="95580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關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96080" y="5365800"/>
            <a:ext cx="1276200" cy="965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拆櫃結案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碼頭、內陸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50000" y="4159080"/>
            <a:ext cx="95580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放行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5116S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605800" y="4159080"/>
            <a:ext cx="95724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提領結案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331040" y="3676680"/>
            <a:ext cx="47772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Ｎ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37320" y="4400640"/>
            <a:ext cx="47772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21320" y="3676680"/>
            <a:ext cx="63792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F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62560" y="4159080"/>
            <a:ext cx="95544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進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21320" y="4883040"/>
            <a:ext cx="63792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" rIns="18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FY/AB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02000" y="5365800"/>
            <a:ext cx="1276560" cy="965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換櫃或改封條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碼頭、內陸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302000" y="3073320"/>
            <a:ext cx="1641600" cy="603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碼頭、內陸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9240" y="3917880"/>
            <a:ext cx="15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940280" y="415872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33520" y="4159080"/>
            <a:ext cx="1117440" cy="10861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起運地裝船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7040" y="2952720"/>
            <a:ext cx="1274760" cy="7239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碼頭、內陸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15040" y="3556080"/>
            <a:ext cx="47772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Ｎ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331040" y="4952880"/>
            <a:ext cx="6382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T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72280" y="5486400"/>
            <a:ext cx="111456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轉運准單放行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5302S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3320" y="4400640"/>
            <a:ext cx="47772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12080" y="512460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969320" y="519444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447040" y="4883040"/>
            <a:ext cx="6364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K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083520" y="5124600"/>
            <a:ext cx="479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286840" y="5365800"/>
            <a:ext cx="1116000" cy="8445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碼頭、內陸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375240" y="3917880"/>
            <a:ext cx="15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534000" y="3556080"/>
            <a:ext cx="955800" cy="723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34000" y="3797280"/>
            <a:ext cx="95580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二次轉運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12080" y="428004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46560" y="3556080"/>
            <a:ext cx="955440" cy="723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進儲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302000" y="3917880"/>
            <a:ext cx="3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2590920"/>
            <a:ext cx="63792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K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824280" y="3072960"/>
            <a:ext cx="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46560" y="3073320"/>
            <a:ext cx="95544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出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3314880"/>
            <a:ext cx="47916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Ｎ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240" y="3917880"/>
            <a:ext cx="47808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87800" y="2108160"/>
            <a:ext cx="1536480" cy="603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286840" y="4641840"/>
            <a:ext cx="95724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出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43240" y="2832120"/>
            <a:ext cx="79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09680" y="3886200"/>
            <a:ext cx="3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95280" y="3886200"/>
            <a:ext cx="304920" cy="0"/>
          </a:xfrm>
          <a:prstGeom prst="line">
            <a:avLst/>
          </a:prstGeom>
          <a:ln cap="sq"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267804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內陸貨櫃集散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3F718-12F8-4D05-875F-66DBD8CF66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Times New Roman"/>
              </a:rPr>
              <a:t>柒、貨櫃動態訊息傳輸流程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七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787400" y="4146480"/>
            <a:ext cx="638280" cy="482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T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97480" y="4146480"/>
            <a:ext cx="6364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K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365960" y="4025880"/>
            <a:ext cx="6382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Y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9480" y="4387680"/>
            <a:ext cx="63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931000" y="4508640"/>
            <a:ext cx="637920" cy="4824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進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14400" y="4648320"/>
            <a:ext cx="1905120" cy="6030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T2 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T6 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轉運准單放行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5302S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97480" y="5353200"/>
            <a:ext cx="6364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" rIns="18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FY/AB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11680" y="5791320"/>
            <a:ext cx="2133360" cy="72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換櫃或改封條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816440" y="462888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00440" y="4387680"/>
            <a:ext cx="79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78160" y="3664080"/>
            <a:ext cx="1462320" cy="7236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207200" y="4508640"/>
            <a:ext cx="95580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裝船結案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31000" y="4025880"/>
            <a:ext cx="63792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F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336920" y="4629240"/>
            <a:ext cx="95724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出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40480" y="3352680"/>
            <a:ext cx="1274760" cy="7239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空運關區、港務局或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33960" y="4267080"/>
            <a:ext cx="79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568920" y="4267080"/>
            <a:ext cx="79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28640" y="3784680"/>
            <a:ext cx="955800" cy="4824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關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3222720" y="3060720"/>
            <a:ext cx="0" cy="13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22720" y="306072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97480" y="2819520"/>
            <a:ext cx="7174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Y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91120" y="2286000"/>
            <a:ext cx="1531800" cy="7239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47000" y="3543480"/>
            <a:ext cx="1488960" cy="6030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43200" y="4025880"/>
            <a:ext cx="957240" cy="723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25680" y="438768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59200" y="4025880"/>
            <a:ext cx="47772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Ｎ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62160" y="3422520"/>
            <a:ext cx="47808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36920" y="3301920"/>
            <a:ext cx="95724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裝船結案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584440" y="4146480"/>
            <a:ext cx="1274760" cy="482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原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同區段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碼頭裝船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T2 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轉口貨櫃 </a:t>
            </a:r>
            <a:r>
              <a:rPr b="1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原碼頭、不同區段碼頭裝船及</a:t>
            </a:r>
            <a:r>
              <a:rPr b="1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T6</a:t>
            </a:r>
            <a:r>
              <a:rPr b="1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海空聯運</a:t>
            </a:r>
            <a:r>
              <a:rPr b="1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3D33-690B-420B-899C-781EB1CF59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Times New Roman"/>
              </a:rPr>
              <a:t>柒、貨櫃動態訊息傳輸流程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八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4952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T2 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轉口貨櫃海上走廊作業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224000" y="2755800"/>
            <a:ext cx="6382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T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40000" y="2755800"/>
            <a:ext cx="6382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C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05040" y="2394000"/>
            <a:ext cx="111600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關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599240" y="2755800"/>
            <a:ext cx="6382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Y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6960" y="2997360"/>
            <a:ext cx="797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3238560"/>
            <a:ext cx="1419120" cy="4824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轉運准單放行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5302S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56000" y="2755800"/>
            <a:ext cx="6364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" rIns="18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D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95800" y="2031840"/>
            <a:ext cx="1581120" cy="787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目的地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62280" y="299736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181240" y="3238560"/>
            <a:ext cx="1114560" cy="4824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上走廊裝船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27800" y="2997360"/>
            <a:ext cx="79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962760" y="29973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440480" y="3238560"/>
            <a:ext cx="95580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裝船結案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324480" y="2755800"/>
            <a:ext cx="6382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F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65720" y="3238560"/>
            <a:ext cx="95580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進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24480" y="3962520"/>
            <a:ext cx="638280" cy="48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" rIns="18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FY/AB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65720" y="4444920"/>
            <a:ext cx="1433520" cy="7239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換櫃或改封條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686560" y="2152800"/>
            <a:ext cx="1704960" cy="514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6643800" y="32382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78280" y="299736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05120" y="2031840"/>
            <a:ext cx="1390680" cy="8445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起運地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0280" y="2152800"/>
            <a:ext cx="1635120" cy="514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0" y="2635200"/>
            <a:ext cx="955800" cy="723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進儲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30760" y="5410080"/>
            <a:ext cx="63828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Y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352680"/>
            <a:ext cx="478080" cy="36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Ｎ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562720" y="2743200"/>
            <a:ext cx="47772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49720" y="3359160"/>
            <a:ext cx="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92480" y="2997360"/>
            <a:ext cx="47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0" y="5892840"/>
            <a:ext cx="95580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裝船結案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86200" y="6134040"/>
            <a:ext cx="1600200" cy="571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95800" y="3238560"/>
            <a:ext cx="1116000" cy="4824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海上走廊卸船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0" y="3841920"/>
            <a:ext cx="955800" cy="723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裝船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049720" y="456552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527800" y="420372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686560" y="5410080"/>
            <a:ext cx="637920" cy="482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AK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24480" y="5651640"/>
            <a:ext cx="47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562720" y="5943600"/>
            <a:ext cx="1863720" cy="5842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港務局或碼頭貨櫃集散站傳送</a:t>
            </a: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27800" y="5048280"/>
            <a:ext cx="95544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出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05520" y="4203720"/>
            <a:ext cx="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86560" y="4686480"/>
            <a:ext cx="47916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Ｎ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730760" y="4686480"/>
            <a:ext cx="477720" cy="361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00"/>
                </a:solidFill>
                <a:latin typeface="新細明體"/>
                <a:ea typeface="新細明體"/>
              </a:rPr>
              <a:t>Ｙ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781680" y="5410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a50021"/>
                </a:solidFill>
                <a:latin typeface="Times New Roman"/>
              </a:rPr>
              <a:t>不同區段碼頭裝船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A8F9B-4E69-4AF7-B06B-4C190AC8FD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600200" y="380520"/>
            <a:ext cx="73152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cc0000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壹、前                言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貳、建置櫃動系統預定時程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參、櫃 動 系 統 流 程 圖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肆、卸 貨 准 單 無 紙 化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伍、進口貨櫃動態查核系統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陸、倉儲業者站內控管系統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柒、貨櫃動態訊息傳輸流程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捌、訊 息 格 式 與 類 別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玖、貨櫃動態銜接表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拾、各單位傳送對照表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拾壹、結                語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61D8-1C62-4891-8BAD-D50D51B5FCE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捌、訊息格式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一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與類別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一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cc"/>
                </a:solidFill>
                <a:latin typeface="Times New Roman"/>
                <a:ea typeface="標楷體"/>
              </a:rPr>
              <a:t>海關傳送進口貨櫃清單訊息：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1143000" y="1600200"/>
          <a:ext cx="7696080" cy="4610160"/>
        </p:xfrm>
        <a:graphic>
          <a:graphicData uri="http://schemas.openxmlformats.org/drawingml/2006/table">
            <a:tbl>
              <a:tblPr/>
              <a:tblGrid>
                <a:gridCol w="952560"/>
                <a:gridCol w="1695240"/>
                <a:gridCol w="781200"/>
                <a:gridCol w="838080"/>
                <a:gridCol w="609840"/>
                <a:gridCol w="838080"/>
                <a:gridCol w="952560"/>
                <a:gridCol w="1028520"/>
              </a:tblGrid>
              <a:tr h="3682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                                                                     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  案  說  明                                     </a:t>
                      </a:r>
                      <a:r>
                        <a:rPr b="0" lang="zh-TW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訊息格式：一 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案傳輸格式編號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: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檔案名稱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: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專屬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EDI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表頭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編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欄   位   名   稱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起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迄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長度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屬性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需求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備         註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辨識控制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’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TVH: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SEND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代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4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3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FILLER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4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4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;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RECEIVE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代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4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8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3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FILLER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8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8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;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CONTROL NO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8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9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FILLER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0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0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;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P FIELD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0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0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FILLER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0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0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;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FILE NAME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0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1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CTNRLIST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FILLER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1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2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FILLER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2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2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’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4FF7-B46C-40C3-A73A-9EFBD83055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捌、訊息格式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一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與類別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二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143000" y="1143000"/>
          <a:ext cx="7696080" cy="1881000"/>
        </p:xfrm>
        <a:graphic>
          <a:graphicData uri="http://schemas.openxmlformats.org/drawingml/2006/table">
            <a:tbl>
              <a:tblPr/>
              <a:tblGrid>
                <a:gridCol w="952560"/>
                <a:gridCol w="1695240"/>
                <a:gridCol w="781200"/>
                <a:gridCol w="838080"/>
                <a:gridCol w="609840"/>
                <a:gridCol w="838080"/>
                <a:gridCol w="952560"/>
                <a:gridCol w="1028520"/>
              </a:tblGrid>
              <a:tr h="3682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海關傳送進口貨櫃清單訊息：           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  案  說  明                                 </a:t>
                      </a:r>
                      <a:r>
                        <a:rPr b="0" lang="zh-TW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訊息格式：一 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案傳輸格式編號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: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檔案名稱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: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專屬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EDI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表尾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編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欄   位   名   稱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起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迄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長度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屬性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需求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備         註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辨識控制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’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TVT: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ONTROL NO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FILLER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2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2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C1EB-6095-438F-B28B-9A2B51AE02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捌、訊息格式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一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與類別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三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219320" y="1219320"/>
          <a:ext cx="7696080" cy="5235480"/>
        </p:xfrm>
        <a:graphic>
          <a:graphicData uri="http://schemas.openxmlformats.org/drawingml/2006/table">
            <a:tbl>
              <a:tblPr/>
              <a:tblGrid>
                <a:gridCol w="952560"/>
                <a:gridCol w="1695240"/>
                <a:gridCol w="781200"/>
                <a:gridCol w="838080"/>
                <a:gridCol w="609480"/>
                <a:gridCol w="838440"/>
                <a:gridCol w="952560"/>
                <a:gridCol w="1028520"/>
              </a:tblGrid>
              <a:tr h="3682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海關傳送進口貨櫃清單訊息：           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  案  說  明                                 </a:t>
                      </a:r>
                      <a:r>
                        <a:rPr b="0" lang="zh-TW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訊息格式：一 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案傳輸格式編號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: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檔案名稱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: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進口貨櫃清單（第一層）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編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欄   位   名   稱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起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迄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長度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屬性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需求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備         註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辨識控制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XI0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船隻掛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停泊碼頭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新細明體"/>
                        </a:rPr>
                        <a:t>處理關別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標楷體"/>
                        </a:rPr>
                        <a:t>1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標楷體"/>
                        </a:rPr>
                        <a:t>2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99"/>
                          </a:solidFill>
                          <a:latin typeface="新細明體"/>
                          <a:ea typeface="新細明體"/>
                        </a:rPr>
                        <a:t>詳說明</a:t>
                      </a:r>
                      <a:r>
                        <a:rPr b="1" lang="zh-TW" sz="1400" spc="-1" strike="noStrike">
                          <a:solidFill>
                            <a:srgbClr val="333399"/>
                          </a:solidFill>
                          <a:latin typeface="新細明體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航次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2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船舶呼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進口日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實櫃總數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5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空櫃總數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5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5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船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5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9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船公司名稱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9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5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船公司簡稱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5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6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准單申請日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6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6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船公司代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6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7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"/>
          <p:cNvSpPr/>
          <p:nvPr/>
        </p:nvSpPr>
        <p:spPr>
          <a:xfrm>
            <a:off x="3581280" y="4267080"/>
            <a:ext cx="3886200" cy="182880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處理關別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BA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高雄關稅局  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BC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前鎮分局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BE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中興分局      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DA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台中關稅局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DM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麥寮工業區 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AA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基隆關稅局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AH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花蓮分局      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AS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蘇澳支局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9B421-31DA-4AF5-BF25-5035C4A860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捌、訊息格式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一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與類別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四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066680" y="1371600"/>
          <a:ext cx="7696440" cy="4307040"/>
        </p:xfrm>
        <a:graphic>
          <a:graphicData uri="http://schemas.openxmlformats.org/drawingml/2006/table">
            <a:tbl>
              <a:tblPr/>
              <a:tblGrid>
                <a:gridCol w="952560"/>
                <a:gridCol w="1695600"/>
                <a:gridCol w="780840"/>
                <a:gridCol w="838440"/>
                <a:gridCol w="609480"/>
                <a:gridCol w="838080"/>
                <a:gridCol w="952560"/>
                <a:gridCol w="1028880"/>
              </a:tblGrid>
              <a:tr h="3682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海關傳送進口貨櫃清單訊息：           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  案  說  明                                 </a:t>
                      </a:r>
                      <a:r>
                        <a:rPr b="0" lang="zh-TW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訊息格式：一 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案傳輸格式編號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: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檔案名稱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: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進口貨櫃清單（第二層）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編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欄   位   名   稱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起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迄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長度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屬性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需求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備         註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辨識控制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XI0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船隻掛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卸存地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轉至地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2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99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新細明體"/>
                        </a:rPr>
                        <a:t>申請原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標楷體"/>
                        </a:rPr>
                        <a:t>2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標楷體"/>
                        </a:rPr>
                        <a:t>2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99"/>
                          </a:solidFill>
                          <a:latin typeface="新細明體"/>
                          <a:ea typeface="新細明體"/>
                        </a:rPr>
                        <a:t>詳說明</a:t>
                      </a:r>
                      <a:r>
                        <a:rPr b="1" lang="zh-TW" sz="1400" spc="-1" strike="noStrike">
                          <a:solidFill>
                            <a:srgbClr val="333399"/>
                          </a:solidFill>
                          <a:latin typeface="新細明體"/>
                          <a:ea typeface="新細明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實櫃數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2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空櫃數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准單貨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0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7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件數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0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1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件數單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1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1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毛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1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2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2971800" y="4343400"/>
            <a:ext cx="4495680" cy="228600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申請原因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01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將貨櫃卸存本站或內陸集散站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 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02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將非櫃裝貨物押運或監視進倉存放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 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03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船邊免驗提貨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(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櫃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 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04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船邊驗放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 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05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將轉口貨或空櫃卸運入站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"09"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轉運他關區貨櫃 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"10"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其他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1E4A8-25E7-40C5-8F0D-30CB9BEC43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捌、訊息格式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一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與類別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五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066680" y="914400"/>
          <a:ext cx="7696440" cy="5862600"/>
        </p:xfrm>
        <a:graphic>
          <a:graphicData uri="http://schemas.openxmlformats.org/drawingml/2006/table">
            <a:tbl>
              <a:tblPr/>
              <a:tblGrid>
                <a:gridCol w="952560"/>
                <a:gridCol w="1695600"/>
                <a:gridCol w="780840"/>
                <a:gridCol w="838440"/>
                <a:gridCol w="609480"/>
                <a:gridCol w="838080"/>
                <a:gridCol w="952560"/>
                <a:gridCol w="1028880"/>
              </a:tblGrid>
              <a:tr h="3682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海關傳送進口貨櫃清單訊息</a:t>
                      </a:r>
                      <a:r>
                        <a:rPr b="0" lang="zh-TW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：    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  案  說  明                                 </a:t>
                      </a:r>
                      <a:r>
                        <a:rPr b="0" lang="zh-TW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訊息格式：一 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案傳輸格式編號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: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檔案名稱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: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進口貨櫃清單（第三層）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編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欄   位   名   稱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起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迄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長度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屬性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需求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備         註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辨識控制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XI0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船隻掛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艙號號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貨櫃號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2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卸存地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2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貨櫃種類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貨櫃裝運方式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詳說明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船公司封條號碼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新細明體"/>
                        </a:rPr>
                        <a:t>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船公司封條號碼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5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5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轉至地點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艙單類別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詳說明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聯營船公司代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6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7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海關處理註記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7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7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詳說明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海關處理註記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7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7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詳說明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海關處理註記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7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7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詳說明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海關處理註記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4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7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7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詳說明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"/>
          <p:cNvSpPr/>
          <p:nvPr/>
        </p:nvSpPr>
        <p:spPr>
          <a:xfrm>
            <a:off x="4343400" y="2666880"/>
            <a:ext cx="3048120" cy="228600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貨櫃裝運方式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 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1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整裝整拆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2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整裝併拆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3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併裝併拆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4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併裝整拆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"5"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整裝整拆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(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數併合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" 6"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併裝整拆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(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數批合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95880" y="3886200"/>
            <a:ext cx="1219320" cy="228600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艙單類別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 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1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進口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2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轉運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"3"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轉口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34120" y="3733920"/>
            <a:ext cx="1828800" cy="175248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海關處理註記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Times New Roman"/>
              </a:rPr>
              <a:t>1:</a:t>
            </a:r>
            <a:r>
              <a:rPr b="0" lang="zh-TW" sz="2000" spc="-1" strike="noStrike">
                <a:solidFill>
                  <a:srgbClr val="0000ff"/>
                </a:solidFill>
                <a:latin typeface="Times New Roman"/>
              </a:rPr>
              <a:t>押運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Times New Roman"/>
              </a:rPr>
              <a:t>2:</a:t>
            </a:r>
            <a:r>
              <a:rPr b="0" lang="zh-TW" sz="2000" spc="-1" strike="noStrike">
                <a:solidFill>
                  <a:srgbClr val="0000ff"/>
                </a:solidFill>
                <a:latin typeface="Times New Roman"/>
              </a:rPr>
              <a:t>檢視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Times New Roman"/>
              </a:rPr>
              <a:t>3:</a:t>
            </a:r>
            <a:r>
              <a:rPr b="0" lang="zh-TW" sz="2000" spc="-1" strike="noStrike">
                <a:solidFill>
                  <a:srgbClr val="0000ff"/>
                </a:solidFill>
                <a:latin typeface="Times New Roman"/>
              </a:rPr>
              <a:t>密通告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Times New Roman"/>
              </a:rPr>
              <a:t>4:</a:t>
            </a:r>
            <a:r>
              <a:rPr b="0" lang="zh-TW" sz="2000" spc="-1" strike="noStrike">
                <a:solidFill>
                  <a:srgbClr val="0000ff"/>
                </a:solidFill>
                <a:latin typeface="Times New Roman"/>
              </a:rPr>
              <a:t>機動註記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EDE3B-92EB-4E63-9A6B-ED2A94A6CF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捌、訊息格式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一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與類別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六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1219320" y="1066680"/>
          <a:ext cx="7696080" cy="2509920"/>
        </p:xfrm>
        <a:graphic>
          <a:graphicData uri="http://schemas.openxmlformats.org/drawingml/2006/table">
            <a:tbl>
              <a:tblPr/>
              <a:tblGrid>
                <a:gridCol w="952560"/>
                <a:gridCol w="1695240"/>
                <a:gridCol w="781200"/>
                <a:gridCol w="838080"/>
                <a:gridCol w="609480"/>
                <a:gridCol w="838440"/>
                <a:gridCol w="952560"/>
                <a:gridCol w="1028520"/>
              </a:tblGrid>
              <a:tr h="3682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海關傳送進口貨櫃清單訊息：           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  案  說  明                                 </a:t>
                      </a:r>
                      <a:r>
                        <a:rPr b="0" lang="zh-TW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訊息格式：一 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案傳輸格式編號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: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檔案名稱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: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進口貨櫃清單（第四層）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編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欄   位   名   稱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起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迄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長度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屬性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需求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備         註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辨識控制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XI2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船隻掛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卸存地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貨櫃號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貨櫃種類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1219320" y="3657600"/>
          <a:ext cx="7696080" cy="2808360"/>
        </p:xfrm>
        <a:graphic>
          <a:graphicData uri="http://schemas.openxmlformats.org/drawingml/2006/table">
            <a:tbl>
              <a:tblPr/>
              <a:tblGrid>
                <a:gridCol w="952560"/>
                <a:gridCol w="1695240"/>
                <a:gridCol w="781200"/>
                <a:gridCol w="838080"/>
                <a:gridCol w="609480"/>
                <a:gridCol w="838440"/>
                <a:gridCol w="952560"/>
                <a:gridCol w="1028520"/>
              </a:tblGrid>
              <a:tr h="3682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海關傳送進口貨櫃清單訊息：           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  案  說  明                                 </a:t>
                      </a:r>
                      <a:r>
                        <a:rPr b="0" lang="zh-TW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訊息格式：一 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7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案傳輸格式編號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: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檔案名稱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: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進口貨櫃清單（第五層）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編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欄   位   名   稱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起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迄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長度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屬性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需求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備         註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辨識控制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XI3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船隻掛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停泊碼頭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艙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2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件數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2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貨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0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7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8AAE-AD30-405D-96FA-E94AD14D68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337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捌、訊息格式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二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與類別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七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cc"/>
                </a:solidFill>
                <a:latin typeface="Times New Roman"/>
                <a:ea typeface="標楷體"/>
              </a:rPr>
              <a:t>港務局、碼頭或內陸貨櫃集散站接收進口貨櫃清單訊息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762120" y="1905120"/>
          <a:ext cx="7848360" cy="4344840"/>
        </p:xfrm>
        <a:graphic>
          <a:graphicData uri="http://schemas.openxmlformats.org/drawingml/2006/table">
            <a:tbl>
              <a:tblPr/>
              <a:tblGrid>
                <a:gridCol w="971280"/>
                <a:gridCol w="1924200"/>
                <a:gridCol w="838080"/>
                <a:gridCol w="762120"/>
                <a:gridCol w="609480"/>
                <a:gridCol w="722520"/>
                <a:gridCol w="971640"/>
                <a:gridCol w="1049040"/>
              </a:tblGrid>
              <a:tr h="3682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業者接收進口貨櫃清單訊息：           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  案  說  明                                 </a:t>
                      </a:r>
                      <a:r>
                        <a:rPr b="0" lang="zh-TW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訊息格式：二 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案傳輸格式編號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: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檔案名稱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: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進口貨櫃清單（第一層）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編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欄   位   名   稱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起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迄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長度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屬性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需求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備         註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辨識控制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T0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異動別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詳說明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航次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船隻掛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2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99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船舶呼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2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2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停泊碼頭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起運地代碼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)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卸存地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運往地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)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代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轉至地代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5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實櫃數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空櫃數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特別准單號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6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8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1064160" y="6275520"/>
            <a:ext cx="35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說明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1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：異動別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"9"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為原始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,"5"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為替換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,"3"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為刪除</a:t>
            </a:r>
            <a:r>
              <a:rPr b="0" lang="zh-TW" sz="1200" spc="-1" strike="noStrike">
                <a:solidFill>
                  <a:srgbClr val="333300"/>
                </a:solidFill>
                <a:latin typeface="Times New Roman"/>
                <a:ea typeface="新細明體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B52AD-5EDD-43AF-8489-6FE23EA1E050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337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捌、訊息格式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二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與類別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八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066680" y="1371600"/>
          <a:ext cx="7848720" cy="5254560"/>
        </p:xfrm>
        <a:graphic>
          <a:graphicData uri="http://schemas.openxmlformats.org/drawingml/2006/table">
            <a:tbl>
              <a:tblPr/>
              <a:tblGrid>
                <a:gridCol w="971640"/>
                <a:gridCol w="1924200"/>
                <a:gridCol w="838080"/>
                <a:gridCol w="762120"/>
                <a:gridCol w="609480"/>
                <a:gridCol w="722160"/>
                <a:gridCol w="971640"/>
                <a:gridCol w="1049400"/>
              </a:tblGrid>
              <a:tr h="3682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業者接收進口貨櫃清單訊息：           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  案  說  明                                 </a:t>
                      </a:r>
                      <a:r>
                        <a:rPr b="0" lang="zh-TW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訊息格式：二 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案傳輸格式編號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: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檔案名稱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: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進口貨櫃清單（第二層）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編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欄   位   名   稱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起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迄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長度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屬性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需求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備         註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辨識控制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T0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船隻掛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艙號號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貨櫃號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2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99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卸存地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2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貨櫃種類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貨櫃裝運方式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詳說明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船公司封條號碼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船公司封條號碼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5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5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轉至地點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艙單類別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詳說明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船公司代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海關處理註記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詳說明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實空櫃別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詳說明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"/>
          <p:cNvSpPr/>
          <p:nvPr/>
        </p:nvSpPr>
        <p:spPr>
          <a:xfrm>
            <a:off x="1295280" y="3048120"/>
            <a:ext cx="6324840" cy="228600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貨櫃裝運方式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       “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1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整裝整拆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,“2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整裝併拆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,“3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併裝併拆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,“4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併裝整拆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       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"5"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整裝整拆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(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數併合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)  "6"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併裝整拆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(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數批合裝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艙  單   類   別  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"1"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進口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,"2"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轉運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,"3"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轉口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海關處理註記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"1"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押運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實  空   櫃   別  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"4"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空櫃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, "5"</a:t>
            </a:r>
            <a:r>
              <a:rPr b="0" lang="zh-TW" sz="2000" spc="-1" strike="noStrike">
                <a:solidFill>
                  <a:srgbClr val="333300"/>
                </a:solidFill>
                <a:latin typeface="Times New Roman"/>
              </a:rPr>
              <a:t>實櫃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B923-6ED3-4545-9987-0269DC6517EB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337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捌、訊息格式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三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與類別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九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cc"/>
                </a:solidFill>
                <a:latin typeface="Times New Roman"/>
                <a:ea typeface="標楷體"/>
              </a:rPr>
              <a:t>港務局、碼頭或內陸貨櫃集散站傳輸進口貨櫃動態訊息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533520" y="1828800"/>
          <a:ext cx="8991360" cy="4041720"/>
        </p:xfrm>
        <a:graphic>
          <a:graphicData uri="http://schemas.openxmlformats.org/drawingml/2006/table">
            <a:tbl>
              <a:tblPr/>
              <a:tblGrid>
                <a:gridCol w="1019160"/>
                <a:gridCol w="2017440"/>
                <a:gridCol w="878040"/>
                <a:gridCol w="798480"/>
                <a:gridCol w="639720"/>
                <a:gridCol w="757440"/>
                <a:gridCol w="2881080"/>
              </a:tblGrid>
              <a:tr h="368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業者傳輸進口貨櫃動態訊息：                     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  案  說  明                                               </a:t>
                      </a:r>
                      <a:r>
                        <a:rPr b="0" lang="zh-TW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訊息格式：三 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案傳輸格式編號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: CTS0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檔案名稱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: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進出口貨櫃動態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項次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欄   位   名   稱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起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迄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長度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需求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備         註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異動別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詳說明１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作業別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詳說明２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卸存地代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詳見通關作業代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運往地代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詳見通關作業代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99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貨櫃號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封條號碼整批確認櫃號可不必填寫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原貨櫃號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3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換櫃時填寫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貨櫃動態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詳說明４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貨櫃動態日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5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yyyymmdd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西元年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異動別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5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5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hhmm(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時分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)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0-1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2" name=""/>
          <p:cNvSpPr/>
          <p:nvPr/>
        </p:nvSpPr>
        <p:spPr>
          <a:xfrm>
            <a:off x="685800" y="594360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說明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1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：異動別“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9”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為原始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,“5”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為替換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,“3”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為刪除</a:t>
            </a:r>
            <a:r>
              <a:rPr b="1" lang="zh-TW" sz="1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說明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2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：</a:t>
            </a:r>
            <a:r>
              <a:rPr b="1" lang="zh-TW" sz="1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作業別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"1"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進口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,"2"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轉運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,"3"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轉口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,"4"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出口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,"9"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其他</a:t>
            </a:r>
            <a:r>
              <a:rPr b="0" lang="zh-TW" sz="1200" spc="-1" strike="noStrike">
                <a:solidFill>
                  <a:srgbClr val="333300"/>
                </a:solidFill>
                <a:latin typeface="新細明體"/>
                <a:ea typeface="新細明體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7B933-763A-41B7-BEF6-4F24552F0146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37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捌、訊息格式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三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與類別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`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十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533520" y="1371600"/>
          <a:ext cx="8991360" cy="4365720"/>
        </p:xfrm>
        <a:graphic>
          <a:graphicData uri="http://schemas.openxmlformats.org/drawingml/2006/table">
            <a:tbl>
              <a:tblPr/>
              <a:tblGrid>
                <a:gridCol w="1019160"/>
                <a:gridCol w="2017440"/>
                <a:gridCol w="878040"/>
                <a:gridCol w="798480"/>
                <a:gridCol w="639720"/>
                <a:gridCol w="757440"/>
                <a:gridCol w="2881080"/>
              </a:tblGrid>
              <a:tr h="368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業者傳輸進口貨櫃動態訊息：                     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  案  說  明                                               </a:t>
                      </a:r>
                      <a:r>
                        <a:rPr b="0" lang="zh-TW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訊息格式：三 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案傳輸格式編號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: CTS0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檔案名稱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: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進出口貨櫃動態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項次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欄   位   名   稱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起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迄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長度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需求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備         註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-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船隻掛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5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船舶呼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船公司自備封條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1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船公司自備封條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99"/>
                          </a:solidFill>
                          <a:latin typeface="Arial"/>
                          <a:ea typeface="新細明體"/>
                        </a:rPr>
                        <a:t>1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海關封條號碼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1 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海關封條號碼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9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空實櫃別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詳說明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貨櫃種類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1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詳見通關作業代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特別准單號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1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3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封條號碼整批確認時必須填寫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備註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3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9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5" name=""/>
          <p:cNvSpPr/>
          <p:nvPr/>
        </p:nvSpPr>
        <p:spPr>
          <a:xfrm>
            <a:off x="533520" y="57913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說明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3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：空實別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"4"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空櫃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,"5"</a:t>
            </a:r>
            <a:r>
              <a:rPr b="1" lang="zh-TW" sz="1600" spc="-1" strike="noStrike">
                <a:solidFill>
                  <a:srgbClr val="a50021"/>
                </a:solidFill>
                <a:latin typeface="新細明體"/>
                <a:ea typeface="新細明體"/>
              </a:rPr>
              <a:t>實櫃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EF611-16B7-4C71-8C60-79685D4C02F9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4038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標楷體"/>
              </a:rPr>
              <a:t>壹、前言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一、貨櫃控管之目的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>
                <a:solidFill>
                  <a:srgbClr val="333300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333300"/>
                </a:solidFill>
                <a:latin typeface="Times New Roman"/>
                <a:ea typeface="標楷體"/>
              </a:rPr>
              <a:t>一</a:t>
            </a:r>
            <a:r>
              <a:rPr b="1" lang="zh-TW" sz="2800" spc="-1" strike="noStrike">
                <a:solidFill>
                  <a:srgbClr val="333300"/>
                </a:solidFill>
                <a:latin typeface="Times New Roman"/>
                <a:ea typeface="標楷體"/>
              </a:rPr>
              <a:t>)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  <a:ea typeface="標楷體"/>
              </a:rPr>
              <a:t>對業者：貨櫃能安全運達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、其他加值服務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00"/>
                </a:solidFill>
                <a:latin typeface="Arial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333300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333300"/>
                </a:solidFill>
                <a:latin typeface="Times New Roman"/>
                <a:ea typeface="標楷體"/>
              </a:rPr>
              <a:t>二</a:t>
            </a:r>
            <a:r>
              <a:rPr b="1" lang="zh-TW" sz="2800" spc="-1" strike="noStrike">
                <a:solidFill>
                  <a:srgbClr val="333300"/>
                </a:solidFill>
                <a:latin typeface="Times New Roman"/>
                <a:ea typeface="標楷體"/>
              </a:rPr>
              <a:t>)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  <a:ea typeface="標楷體"/>
              </a:rPr>
              <a:t>對海關：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防止漏稅與走私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二、進口貨櫃控管範圍：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zh-TW" sz="2800" spc="-1" strike="noStrike">
                <a:solidFill>
                  <a:srgbClr val="333300"/>
                </a:solidFill>
                <a:latin typeface="Times New Roman"/>
              </a:rPr>
              <a:t>(</a:t>
            </a:r>
            <a:r>
              <a:rPr b="1" lang="zh-TW" sz="2800" spc="-1" strike="noStrike">
                <a:solidFill>
                  <a:srgbClr val="333300"/>
                </a:solidFill>
                <a:latin typeface="Times New Roman"/>
                <a:ea typeface="標楷體"/>
              </a:rPr>
              <a:t>一</a:t>
            </a:r>
            <a:r>
              <a:rPr b="1" lang="zh-TW" sz="2800" spc="-1" strike="noStrike">
                <a:solidFill>
                  <a:srgbClr val="333300"/>
                </a:solidFill>
                <a:latin typeface="Times New Roman"/>
              </a:rPr>
              <a:t>)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實櫃：卸船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</a:rPr>
              <a:t> →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  <a:ea typeface="標楷體"/>
              </a:rPr>
              <a:t>港務局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、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集散站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</a:rPr>
              <a:t>)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出站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  <a:ea typeface="標楷體"/>
              </a:rPr>
              <a:t>進儲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  <a:ea typeface="標楷體"/>
              </a:rPr>
              <a:t>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        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</a:rPr>
              <a:t> →</a:t>
            </a:r>
            <a:r>
              <a:rPr b="1" lang="zh-TW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TW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CFS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拆櫃進倉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、</a:t>
            </a:r>
            <a:r>
              <a:rPr b="1" lang="zh-TW" sz="2800" spc="-1" strike="noStrike">
                <a:solidFill>
                  <a:srgbClr val="0000cc"/>
                </a:solidFill>
                <a:latin typeface="Times New Roman"/>
                <a:ea typeface="標楷體"/>
              </a:rPr>
              <a:t>CY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出站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  <a:ea typeface="標楷體"/>
              </a:rPr>
              <a:t>提領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  <a:ea typeface="標楷體"/>
              </a:rPr>
              <a:t>)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</a:rPr>
              <a:t> →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  <a:ea typeface="標楷體"/>
              </a:rPr>
              <a:t>轉運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00"/>
                </a:solidFill>
                <a:latin typeface="Arial"/>
                <a:ea typeface="標楷體"/>
              </a:rPr>
              <a:t>                  </a:t>
            </a:r>
            <a:r>
              <a:rPr b="1" lang="zh-TW" sz="3200" spc="-1" strike="noStrike">
                <a:solidFill>
                  <a:srgbClr val="333300"/>
                </a:solidFill>
                <a:latin typeface="Times New Roman"/>
                <a:ea typeface="標楷體"/>
              </a:rPr>
              <a:t>、轉口</a:t>
            </a:r>
            <a:r>
              <a:rPr b="1" lang="zh-TW" sz="3200" spc="-1" strike="noStrike">
                <a:solidFill>
                  <a:srgbClr val="333300"/>
                </a:solidFill>
                <a:latin typeface="Times New Roman"/>
                <a:ea typeface="標楷體"/>
              </a:rPr>
              <a:t>(</a:t>
            </a:r>
            <a:r>
              <a:rPr b="1" lang="zh-TW" sz="3200" spc="-1" strike="noStrike">
                <a:solidFill>
                  <a:srgbClr val="333300"/>
                </a:solidFill>
                <a:latin typeface="Times New Roman"/>
                <a:ea typeface="標楷體"/>
              </a:rPr>
              <a:t>陸、海</a:t>
            </a:r>
            <a:r>
              <a:rPr b="1" lang="zh-TW" sz="3200" spc="-1" strike="noStrike">
                <a:solidFill>
                  <a:srgbClr val="333300"/>
                </a:solidFill>
                <a:latin typeface="Times New Roman"/>
                <a:ea typeface="標楷體"/>
              </a:rPr>
              <a:t>)</a:t>
            </a:r>
            <a:r>
              <a:rPr b="1" lang="zh-TW" sz="3200" spc="-1" strike="noStrike">
                <a:solidFill>
                  <a:srgbClr val="333300"/>
                </a:solidFill>
                <a:latin typeface="Times New Roman"/>
                <a:ea typeface="標楷體"/>
              </a:rPr>
              <a:t>、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D8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  <a:ea typeface="標楷體"/>
              </a:rPr>
              <a:t>進儲</a:t>
            </a:r>
            <a:r>
              <a:rPr b="1" lang="zh-TW" sz="3200" spc="-1" strike="noStrike">
                <a:solidFill>
                  <a:srgbClr val="333300"/>
                </a:solidFill>
                <a:latin typeface="Times New Roman"/>
                <a:ea typeface="標楷體"/>
              </a:rPr>
              <a:t>、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L1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  <a:ea typeface="標楷體"/>
              </a:rPr>
              <a:t>進儲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zh-TW" sz="2800" spc="-1" strike="noStrike">
                <a:solidFill>
                  <a:srgbClr val="333300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333300"/>
                </a:solidFill>
                <a:latin typeface="Times New Roman"/>
                <a:ea typeface="標楷體"/>
              </a:rPr>
              <a:t>二</a:t>
            </a:r>
            <a:r>
              <a:rPr b="1" lang="zh-TW" sz="2800" spc="-1" strike="noStrike">
                <a:solidFill>
                  <a:srgbClr val="333300"/>
                </a:solidFill>
                <a:latin typeface="Times New Roman"/>
                <a:ea typeface="標楷體"/>
              </a:rPr>
              <a:t>)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空櫃：卸船→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碼頭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出站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三、推動業者全面自主管理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四、配合全球運籌發展計劃推動執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B9F3-9D8F-47AD-97B4-7C67028BDC64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37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捌、訊息格式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三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與類別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`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十一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762120" y="1219320"/>
          <a:ext cx="8458200" cy="5349600"/>
        </p:xfrm>
        <a:graphic>
          <a:graphicData uri="http://schemas.openxmlformats.org/drawingml/2006/table">
            <a:tbl>
              <a:tblPr/>
              <a:tblGrid>
                <a:gridCol w="558720"/>
                <a:gridCol w="2260440"/>
                <a:gridCol w="2743200"/>
                <a:gridCol w="2895840"/>
              </a:tblGrid>
              <a:tr h="36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貨櫃動態代碼表（</a:t>
                      </a:r>
                      <a:r>
                        <a:rPr b="1" lang="zh-TW" sz="16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r>
                        <a:rPr b="1" lang="zh-TW" sz="16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）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序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貨櫃動態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傳送單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備註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AA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核准卸船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海關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FI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卸運入站（封條確認）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港務局或碼頭貨櫃集散站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AH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海關扣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海關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海關執行關員輸入貨櫃動態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AH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AP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准單異動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海關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AK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進口重櫃出站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港務局或碼頭、內陸貨櫃集散站、其他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內陸貨櫃集散站有轉至地出站傳輸貨櫃動態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AK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FG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進口重櫃進站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內陸貨櫃集散站、其他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FX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進口重櫃場外換櫃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港務局或碼頭、內陸貨櫃集散站、其他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若起運地至目的地途中有換櫃由目的地傳送貨櫃動態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FX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FY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進口重櫃場內換櫃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港務局或碼頭、內陸貨櫃集散站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AB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更改封條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港務局或碼頭、內陸貨櫃集散站、其他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AC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海上走廊裝船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港務局、碼頭貨櫃集散站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 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AB2B3-3E72-45C3-A0E5-0BE29CB589A4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37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捌、訊息格式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三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與類別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`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十二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762120" y="1066680"/>
          <a:ext cx="8458200" cy="5300640"/>
        </p:xfrm>
        <a:graphic>
          <a:graphicData uri="http://schemas.openxmlformats.org/drawingml/2006/table">
            <a:tbl>
              <a:tblPr/>
              <a:tblGrid>
                <a:gridCol w="558720"/>
                <a:gridCol w="2260440"/>
                <a:gridCol w="2743200"/>
                <a:gridCol w="2895840"/>
              </a:tblGrid>
              <a:tr h="36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貨櫃動態代碼表（</a:t>
                      </a:r>
                      <a:r>
                        <a:rPr b="1" lang="zh-TW" sz="16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r>
                        <a:rPr b="1" lang="zh-TW" sz="16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）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序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貨櫃動態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傳送單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備註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AD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海上走廊卸船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港務局、碼頭貨櫃集散站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AF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放行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海關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AT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轉運准單放行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海關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AW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船提結案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港務局、碼頭貨櫃集散站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AX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提領結案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港務局或碼頭、內陸貨櫃集散站、其他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AY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裝船結案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港務局、碼頭貨櫃集散站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AZ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拆櫃結案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港務局、碼頭貨櫃集散站或加工區、其他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ES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空櫃出站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港務局、碼頭貨櫃集散站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AO</a:t>
                      </a: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新細明體"/>
                          <a:ea typeface="新細明體"/>
                        </a:rPr>
                        <a:t>：其他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復出口、其他方式辦理出站傳送貨櫃動態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AO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↓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096D2-5E40-485B-B717-9838CD98B66D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捌、訊息格式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四</a:t>
            </a: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TW" sz="4000" spc="-1" strike="noStrike">
                <a:solidFill>
                  <a:srgbClr val="cc0000"/>
                </a:solidFill>
                <a:latin typeface="Times New Roman"/>
              </a:rPr>
              <a:t>與類別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十三</a:t>
            </a:r>
            <a:r>
              <a:rPr b="1" lang="zh-TW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cc"/>
                </a:solidFill>
                <a:latin typeface="Times New Roman"/>
                <a:ea typeface="標楷體"/>
              </a:rPr>
              <a:t>貨櫃動態錯誤訊息回應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（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for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港務局或碼頭集散站、貨櫃場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)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219320" y="2057400"/>
          <a:ext cx="7619760" cy="3568680"/>
        </p:xfrm>
        <a:graphic>
          <a:graphicData uri="http://schemas.openxmlformats.org/drawingml/2006/table">
            <a:tbl>
              <a:tblPr/>
              <a:tblGrid>
                <a:gridCol w="838080"/>
                <a:gridCol w="1828800"/>
                <a:gridCol w="1247760"/>
                <a:gridCol w="798480"/>
                <a:gridCol w="639720"/>
                <a:gridCol w="757440"/>
                <a:gridCol w="1509480"/>
              </a:tblGrid>
              <a:tr h="379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  案  說  明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檔案傳輸格式編號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: CTS0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檔案名稱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:</a:t>
                      </a:r>
                      <a:r>
                        <a:rPr b="1" lang="zh-TW" sz="1400" spc="-1" strike="noStrike">
                          <a:solidFill>
                            <a:srgbClr val="cc0000"/>
                          </a:solidFill>
                          <a:latin typeface="新細明體"/>
                          <a:ea typeface="新細明體"/>
                        </a:rPr>
                        <a:t>進口貨櫃動態回應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項次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欄   位   名   稱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起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迄欄位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長度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需求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備         註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貨櫃號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船掛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貨櫃動態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1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2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回應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新細明體"/>
                        </a:rPr>
                        <a:t>詳說明一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13172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0000"/>
                          </a:solidFill>
                          <a:latin typeface="標楷體"/>
                          <a:ea typeface="標楷體"/>
                        </a:rPr>
                        <a:t>說明一：回應碼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1" lang="zh-TW" sz="1600" spc="-1" strike="noStrike">
                          <a:solidFill>
                            <a:srgbClr val="cc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cc0000"/>
                          </a:solidFill>
                          <a:latin typeface="標楷體"/>
                          <a:ea typeface="標楷體"/>
                        </a:rPr>
                        <a:t>必要欄位沒填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1" lang="zh-TW" sz="1600" spc="-1" strike="noStrike">
                          <a:solidFill>
                            <a:srgbClr val="cc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cc0000"/>
                          </a:solidFill>
                          <a:latin typeface="標楷體"/>
                          <a:ea typeface="標楷體"/>
                        </a:rPr>
                        <a:t>無此貨櫃動態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1" lang="zh-TW" sz="1600" spc="-1" strike="noStrike">
                          <a:solidFill>
                            <a:srgbClr val="cc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1" lang="zh-TW" sz="1600" spc="-1" strike="noStrike">
                          <a:solidFill>
                            <a:srgbClr val="cc0000"/>
                          </a:solidFill>
                          <a:latin typeface="標楷體"/>
                          <a:ea typeface="標楷體"/>
                        </a:rPr>
                        <a:t>無此准單號碼，無法作整批封條確認</a:t>
                      </a:r>
                      <a:r>
                        <a:rPr b="1" lang="zh-TW" sz="1600" spc="-1" strike="noStrike">
                          <a:solidFill>
                            <a:srgbClr val="a50021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FB1BD-7FB3-4934-B683-CC97DCD37E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Times New Roman"/>
              </a:rPr>
              <a:t>玖、貨櫃動態銜接表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371600" y="914400"/>
          <a:ext cx="7416720" cy="5761080"/>
        </p:xfrm>
        <a:graphic>
          <a:graphicData uri="http://schemas.openxmlformats.org/drawingml/2006/table">
            <a:tbl>
              <a:tblPr/>
              <a:tblGrid>
                <a:gridCol w="847800"/>
                <a:gridCol w="903240"/>
                <a:gridCol w="3774960"/>
                <a:gridCol w="1890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序號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動態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可銜接之貨櫃動態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貨櫃動態說明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A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P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FI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ES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K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rowSpan="1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A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：核准卸船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FI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：卸運入站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    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封條確認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)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H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：海關扣押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P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：艙單異動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K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：出站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FG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：進站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FX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：場外換櫃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FY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：場內換櫃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B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：更改封條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C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：海上走廊裝船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D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：海上走廊卸船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F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：放行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T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：轉運准單放行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W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：船提結案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X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：提領結案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Y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：裝船結案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AZ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：拆櫃結案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ES</a:t>
                      </a: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新細明體"/>
                          <a:ea typeface="新細明體"/>
                        </a:rPr>
                        <a:t>：空櫃出站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P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FI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K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FI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H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P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K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T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F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Z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FY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B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H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P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K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K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FX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FG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B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FG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FY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F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T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Z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B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K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F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X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Y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W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T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K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C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Y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C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D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D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K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FG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B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FX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Y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1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FX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K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FG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FY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K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C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Y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T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3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B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K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C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Y</a:t>
                      </a:r>
                      <a:r>
                        <a:rPr b="1" lang="zh-CN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AT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X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5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Y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6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Z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7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ES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18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AW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49CBA-CC8E-48CB-9A9F-BEEA5DC2AA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Times New Roman"/>
              </a:rPr>
              <a:t>拾、各單位傳送對照表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990720" y="990720"/>
          <a:ext cx="7924680" cy="5217840"/>
        </p:xfrm>
        <a:graphic>
          <a:graphicData uri="http://schemas.openxmlformats.org/drawingml/2006/table">
            <a:tbl>
              <a:tblPr/>
              <a:tblGrid>
                <a:gridCol w="2209680"/>
                <a:gridCol w="1320840"/>
                <a:gridCol w="1803240"/>
                <a:gridCol w="1447920"/>
                <a:gridCol w="1143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貨櫃動態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海關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港務局或碼頭集散站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內陸貨櫃集散站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333300"/>
                          </a:solidFill>
                          <a:latin typeface="Arial"/>
                          <a:ea typeface="新細明體"/>
                        </a:rPr>
                        <a:t>其他（註一）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AA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：核准卸船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FI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：卸運入站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(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封條確認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)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AH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：海關扣押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AP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：准單異動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AK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：進口重櫃出站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FG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：進口重櫃進站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FX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：進口重櫃場外換櫃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FY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：進口重櫃場內換櫃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AB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：更改封條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AC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：海上走廊裝船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AD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：海上走廊卸船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AF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：放行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AT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：轉運准單放行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Arial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AW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：船提結案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AX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：提領結案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AY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：裝船結案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AZ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：拆櫃結案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ES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：空櫃出站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974880" y="6208560"/>
            <a:ext cx="679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0000"/>
                </a:solidFill>
                <a:latin typeface="Times New Roman"/>
                <a:ea typeface="新細明體"/>
              </a:rPr>
              <a:t>註一：加工出口區、科學園區、保稅倉庫、物流中心、免稅商店等</a:t>
            </a:r>
            <a:r>
              <a:rPr b="0" lang="zh-TW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7CADB-0000-4D7C-82D2-E52A45AF83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4540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標楷體"/>
              </a:rPr>
              <a:t>拾壹、結語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15328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476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標楷體"/>
                <a:ea typeface="標楷體"/>
              </a:rPr>
              <a:t>一、本案推行時程甚為短促，亟須各界的配合與海關同仁的努力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10476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標楷體"/>
                <a:ea typeface="標楷體"/>
              </a:rPr>
              <a:t>二、簡報完畢，敬請支持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10476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570" name="CONTAINR" descr=""/>
          <p:cNvPicPr/>
          <p:nvPr/>
        </p:nvPicPr>
        <p:blipFill>
          <a:blip r:embed="rId1"/>
          <a:stretch/>
        </p:blipFill>
        <p:spPr>
          <a:xfrm>
            <a:off x="2819520" y="3278160"/>
            <a:ext cx="5029200" cy="337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59FF8-3F90-42C0-8D85-533D57D629AC}" type="slidenum">
              <a:t>35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7680" y="228240"/>
            <a:ext cx="8832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標楷體"/>
              </a:rPr>
              <a:t>貳、建置「櫃動系統」預定時程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43120" y="938160"/>
          <a:ext cx="865476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938160"/>
                    <a:ext cx="865476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5DAB3-A761-4B97-9D35-D4CD8CF0D462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400800" y="4572000"/>
            <a:ext cx="2895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0000"/>
                </a:solidFill>
                <a:latin typeface="Times New Roman"/>
              </a:rPr>
              <a:t>系統功能：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0000"/>
                </a:solidFill>
                <a:latin typeface="Times New Roman"/>
              </a:rPr>
              <a:t>卸貨准單無紙化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0000"/>
                </a:solidFill>
                <a:latin typeface="Times New Roman"/>
              </a:rPr>
              <a:t>掌握貨櫃動態、加值服務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0000"/>
                </a:solidFill>
                <a:latin typeface="Times New Roman"/>
              </a:rPr>
              <a:t>業者自主管理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0000"/>
                </a:solidFill>
                <a:latin typeface="Times New Roman"/>
              </a:rPr>
              <a:t>通報異常狀況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0000"/>
                </a:solidFill>
                <a:latin typeface="Times New Roman"/>
              </a:rPr>
              <a:t>查緝走私、漏稅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0880" y="1447920"/>
            <a:ext cx="5784840" cy="5257800"/>
            <a:chOff x="380880" y="1447920"/>
            <a:chExt cx="5784840" cy="5257800"/>
          </a:xfrm>
        </p:grpSpPr>
        <p:sp>
          <p:nvSpPr>
            <p:cNvPr id="162" name=""/>
            <p:cNvSpPr/>
            <p:nvPr/>
          </p:nvSpPr>
          <p:spPr>
            <a:xfrm>
              <a:off x="380880" y="2819520"/>
              <a:ext cx="5283360" cy="1904760"/>
            </a:xfrm>
            <a:prstGeom prst="rect">
              <a:avLst/>
            </a:prstGeom>
            <a:solidFill>
              <a:srgbClr val="e5d58a"/>
            </a:solidFill>
            <a:ln w="936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6720" y="2971800"/>
              <a:ext cx="2146320" cy="1295280"/>
            </a:xfrm>
            <a:prstGeom prst="flowChartMagneticDrum">
              <a:avLst/>
            </a:prstGeom>
            <a:solidFill>
              <a:srgbClr val="ffffff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333300"/>
                  </a:solidFill>
                  <a:latin typeface="Times New Roman"/>
                </a:rPr>
                <a:t>櫃動庫</a:t>
              </a:r>
              <a:endParaRPr b="0" lang="en-US" sz="3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82720" y="4267080"/>
              <a:ext cx="0" cy="137160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5800" y="1447920"/>
              <a:ext cx="99072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333300"/>
                  </a:solidFill>
                  <a:latin typeface="Times New Roman"/>
                </a:rPr>
                <a:t>海關</a:t>
              </a:r>
              <a:endParaRPr b="0" lang="en-US" sz="3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2600" y="5638680"/>
              <a:ext cx="1485720" cy="99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333300"/>
                  </a:solidFill>
                  <a:latin typeface="Times New Roman"/>
                </a:rPr>
                <a:t>船公司</a:t>
              </a:r>
              <a:endParaRPr b="0" lang="en-US" sz="3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32320" y="5638680"/>
              <a:ext cx="17334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333300"/>
                  </a:solidFill>
                  <a:latin typeface="Times New Roman"/>
                </a:rPr>
                <a:t>貨櫃站</a:t>
              </a:r>
              <a:endParaRPr b="0" lang="en-US" sz="3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0" y="5638680"/>
              <a:ext cx="18162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333300"/>
                  </a:solidFill>
                  <a:latin typeface="Times New Roman"/>
                </a:rPr>
                <a:t>港務局</a:t>
              </a:r>
              <a:endParaRPr b="0" lang="en-US" sz="32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333300"/>
                  </a:solidFill>
                  <a:latin typeface="Times New Roman"/>
                </a:rPr>
                <a:t>(</a:t>
              </a:r>
              <a:r>
                <a:rPr b="0" lang="zh-TW" sz="3200" spc="-1" strike="noStrike">
                  <a:solidFill>
                    <a:srgbClr val="333300"/>
                  </a:solidFill>
                  <a:latin typeface="Times New Roman"/>
                </a:rPr>
                <a:t>船公司</a:t>
              </a:r>
              <a:r>
                <a:rPr b="0" lang="zh-TW" sz="3200" spc="-1" strike="noStrike">
                  <a:solidFill>
                    <a:srgbClr val="3333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7360" y="2971800"/>
              <a:ext cx="2063880" cy="1295280"/>
            </a:xfrm>
            <a:prstGeom prst="flowChartMagneticDrum">
              <a:avLst/>
            </a:prstGeom>
            <a:solidFill>
              <a:srgbClr val="ffffff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333300"/>
                  </a:solidFill>
                  <a:latin typeface="Times New Roman"/>
                </a:rPr>
                <a:t>通關</a:t>
              </a:r>
              <a:endParaRPr b="0" lang="en-US" sz="32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333300"/>
                  </a:solidFill>
                  <a:latin typeface="Times New Roman"/>
                </a:rPr>
                <a:t>網路</a:t>
              </a:r>
              <a:endParaRPr b="0" lang="en-US" sz="3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08200" y="2133720"/>
              <a:ext cx="2146320" cy="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54520" y="2133720"/>
              <a:ext cx="0" cy="83808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4520" y="4267080"/>
              <a:ext cx="0" cy="137160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54520" y="5105520"/>
              <a:ext cx="1073160" cy="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27680" y="5105520"/>
              <a:ext cx="0" cy="53316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606840" y="4267080"/>
              <a:ext cx="0" cy="137160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092560" y="4267080"/>
              <a:ext cx="0" cy="137160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03960" y="1752480"/>
              <a:ext cx="141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333300"/>
                  </a:solidFill>
                  <a:latin typeface="Times New Roman"/>
                </a:rPr>
                <a:t>GDP</a:t>
              </a:r>
              <a:r>
                <a:rPr b="0" lang="zh-TW" sz="2400" spc="-1" strike="noStrike">
                  <a:solidFill>
                    <a:srgbClr val="333300"/>
                  </a:solidFill>
                  <a:latin typeface="Times New Roman"/>
                </a:rPr>
                <a:t>、</a:t>
              </a:r>
              <a:r>
                <a:rPr b="0" lang="zh-TW" sz="2400" spc="-1" strike="noStrike">
                  <a:solidFill>
                    <a:srgbClr val="333300"/>
                  </a:solidFill>
                  <a:latin typeface="Times New Roman"/>
                </a:rPr>
                <a:t>SP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333300"/>
                  </a:solidFill>
                  <a:latin typeface="Times New Roman"/>
                </a:rPr>
                <a:t>貨櫃清單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9880" y="4800600"/>
              <a:ext cx="132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33300"/>
                  </a:solidFill>
                  <a:latin typeface="Times New Roman"/>
                </a:rPr>
                <a:t>GDP</a:t>
              </a:r>
              <a:r>
                <a:rPr b="0" lang="zh-TW" sz="1800" spc="-1" strike="noStrike">
                  <a:solidFill>
                    <a:srgbClr val="333300"/>
                  </a:solidFill>
                  <a:latin typeface="Times New Roman"/>
                </a:rPr>
                <a:t>、</a:t>
              </a:r>
              <a:r>
                <a:rPr b="0" lang="zh-TW" sz="1800" spc="-1" strike="noStrike">
                  <a:solidFill>
                    <a:srgbClr val="333300"/>
                  </a:solidFill>
                  <a:latin typeface="Times New Roman"/>
                </a:rPr>
                <a:t>SP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33300"/>
                  </a:solidFill>
                  <a:latin typeface="Times New Roman"/>
                </a:rPr>
                <a:t>貨櫃清單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94800" y="4724280"/>
              <a:ext cx="98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333300"/>
                  </a:solidFill>
                  <a:latin typeface="Times New Roman"/>
                </a:rPr>
                <a:t>出管站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333300"/>
                  </a:solidFill>
                  <a:latin typeface="Times New Roman"/>
                </a:rPr>
                <a:t>  </a:t>
              </a:r>
              <a:r>
                <a:rPr b="0" lang="zh-TW" sz="2400" spc="-1" strike="noStrike">
                  <a:solidFill>
                    <a:srgbClr val="333300"/>
                  </a:solidFill>
                  <a:latin typeface="Times New Roman"/>
                </a:rPr>
                <a:t>資料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75360" y="4648320"/>
              <a:ext cx="86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333300"/>
                  </a:solidFill>
                  <a:latin typeface="Times New Roman"/>
                </a:rPr>
                <a:t>進站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333300"/>
                  </a:solidFill>
                  <a:latin typeface="Times New Roman"/>
                </a:rPr>
                <a:t>資料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3280" y="5105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333300"/>
                  </a:solidFill>
                  <a:latin typeface="Times New Roman"/>
                </a:rPr>
                <a:t>艙單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460520" y="4267080"/>
              <a:ext cx="0" cy="1371600"/>
            </a:xfrm>
            <a:prstGeom prst="line">
              <a:avLst/>
            </a:prstGeom>
            <a:ln w="38160">
              <a:solidFill>
                <a:srgbClr val="3333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1447560" y="2438280"/>
              <a:ext cx="12600" cy="533520"/>
            </a:xfrm>
            <a:prstGeom prst="line">
              <a:avLst/>
            </a:prstGeom>
            <a:ln w="38160">
              <a:solidFill>
                <a:srgbClr val="3333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60520" y="5029200"/>
              <a:ext cx="1073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33300"/>
                  </a:solidFill>
                  <a:latin typeface="Times New Roman"/>
                </a:rPr>
                <a:t>申請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33300"/>
                  </a:solidFill>
                  <a:latin typeface="Times New Roman"/>
                </a:rPr>
                <a:t>GDP</a:t>
              </a:r>
              <a:r>
                <a:rPr b="0" lang="zh-TW" sz="1800" spc="-1" strike="noStrike">
                  <a:solidFill>
                    <a:srgbClr val="333300"/>
                  </a:solidFill>
                  <a:latin typeface="Times New Roman"/>
                </a:rPr>
                <a:t>、</a:t>
              </a:r>
              <a:r>
                <a:rPr b="0" lang="zh-TW" sz="1800" spc="-1" strike="noStrike">
                  <a:solidFill>
                    <a:srgbClr val="333300"/>
                  </a:solidFill>
                  <a:latin typeface="Times New Roman"/>
                </a:rPr>
                <a:t>SP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838080" y="2438280"/>
              <a:ext cx="0" cy="53352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620120" y="4114800"/>
            <a:ext cx="0" cy="457200"/>
          </a:xfrm>
          <a:prstGeom prst="line">
            <a:avLst/>
          </a:prstGeom>
          <a:ln w="57240">
            <a:solidFill>
              <a:srgbClr val="33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52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標楷體"/>
              </a:rPr>
              <a:t>參、櫃動系統流程圖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410080" y="1143000"/>
            <a:ext cx="4000320" cy="2800440"/>
            <a:chOff x="5410080" y="1143000"/>
            <a:chExt cx="4000320" cy="2800440"/>
          </a:xfrm>
        </p:grpSpPr>
        <p:grpSp>
          <p:nvGrpSpPr>
            <p:cNvPr id="189" name=""/>
            <p:cNvGrpSpPr/>
            <p:nvPr/>
          </p:nvGrpSpPr>
          <p:grpSpPr>
            <a:xfrm>
              <a:off x="6235560" y="3048120"/>
              <a:ext cx="2476080" cy="895320"/>
              <a:chOff x="6235560" y="3048120"/>
              <a:chExt cx="2476080" cy="895320"/>
            </a:xfrm>
          </p:grpSpPr>
          <p:sp>
            <p:nvSpPr>
              <p:cNvPr id="190" name=""/>
              <p:cNvSpPr/>
              <p:nvPr/>
            </p:nvSpPr>
            <p:spPr>
              <a:xfrm>
                <a:off x="8166240" y="3165480"/>
                <a:ext cx="30816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235560" y="3231720"/>
                <a:ext cx="1131480" cy="4658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888680" y="3250080"/>
                <a:ext cx="822960" cy="4478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32280" y="3332880"/>
                <a:ext cx="1207800" cy="6105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218000" y="3436920"/>
                <a:ext cx="1217880" cy="4626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34880" y="3376440"/>
                <a:ext cx="1391040" cy="40680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006320" y="3655440"/>
                <a:ext cx="1035000" cy="20052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301240" y="3308760"/>
                <a:ext cx="196920" cy="34632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21760" y="3376440"/>
                <a:ext cx="623880" cy="2199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07600" y="3048120"/>
                <a:ext cx="1594080" cy="5486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43160" y="3250080"/>
                <a:ext cx="1632600" cy="49104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8217000" y="1676520"/>
              <a:ext cx="1193400" cy="82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2" name=""/>
            <p:cNvGrpSpPr/>
            <p:nvPr/>
          </p:nvGrpSpPr>
          <p:grpSpPr>
            <a:xfrm>
              <a:off x="6337440" y="1922040"/>
              <a:ext cx="576720" cy="1167480"/>
              <a:chOff x="6337440" y="1922040"/>
              <a:chExt cx="576720" cy="1167480"/>
            </a:xfrm>
          </p:grpSpPr>
          <p:sp>
            <p:nvSpPr>
              <p:cNvPr id="203" name=""/>
              <p:cNvSpPr/>
              <p:nvPr/>
            </p:nvSpPr>
            <p:spPr>
              <a:xfrm>
                <a:off x="6337440" y="1922040"/>
                <a:ext cx="378720" cy="619560"/>
              </a:xfrm>
              <a:prstGeom prst="line">
                <a:avLst/>
              </a:prstGeom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508080" y="2425680"/>
                <a:ext cx="406080" cy="663840"/>
              </a:xfrm>
              <a:prstGeom prst="line">
                <a:avLst/>
              </a:prstGeom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508440" y="2425320"/>
                <a:ext cx="208080" cy="115920"/>
              </a:xfrm>
              <a:prstGeom prst="line">
                <a:avLst/>
              </a:prstGeom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 flipV="1">
              <a:off x="6235560" y="2056680"/>
              <a:ext cx="495000" cy="152280"/>
            </a:xfrm>
            <a:prstGeom prst="rect">
              <a:avLst/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984a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95800" y="3276720"/>
              <a:ext cx="132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5905080" y="1143000"/>
              <a:ext cx="119340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233400" y="21337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333300"/>
                  </a:solidFill>
                  <a:latin typeface="Times New Roman"/>
                </a:rPr>
                <a:t>網路安全機制</a:t>
              </a:r>
              <a:endParaRPr b="0" lang="en-US" sz="1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5410080" y="3657240"/>
              <a:ext cx="1403280" cy="152640"/>
              <a:chOff x="5410080" y="3657240"/>
              <a:chExt cx="1403280" cy="152640"/>
            </a:xfrm>
          </p:grpSpPr>
          <p:sp>
            <p:nvSpPr>
              <p:cNvPr id="211" name=""/>
              <p:cNvSpPr/>
              <p:nvPr/>
            </p:nvSpPr>
            <p:spPr>
              <a:xfrm>
                <a:off x="5410080" y="3657600"/>
                <a:ext cx="785880" cy="0"/>
              </a:xfrm>
              <a:prstGeom prst="line">
                <a:avLst/>
              </a:prstGeom>
              <a:ln w="158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71320" y="3809880"/>
                <a:ext cx="842040" cy="0"/>
              </a:xfrm>
              <a:prstGeom prst="line">
                <a:avLst/>
              </a:prstGeom>
              <a:ln w="158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5971320" y="3657240"/>
                <a:ext cx="224640" cy="152280"/>
              </a:xfrm>
              <a:prstGeom prst="line">
                <a:avLst/>
              </a:prstGeom>
              <a:ln w="158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8301240" y="2616480"/>
              <a:ext cx="334080" cy="650160"/>
              <a:chOff x="8301240" y="2616480"/>
              <a:chExt cx="334080" cy="65016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8452440" y="3019680"/>
                <a:ext cx="182880" cy="246960"/>
              </a:xfrm>
              <a:prstGeom prst="line">
                <a:avLst/>
              </a:prstGeom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8301240" y="2616480"/>
                <a:ext cx="195840" cy="264960"/>
              </a:xfrm>
              <a:prstGeom prst="line">
                <a:avLst/>
              </a:prstGeom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301240" y="2881440"/>
                <a:ext cx="334080" cy="138240"/>
              </a:xfrm>
              <a:prstGeom prst="line">
                <a:avLst/>
              </a:prstGeom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 flipV="1">
              <a:off x="8217000" y="2513880"/>
              <a:ext cx="495000" cy="152280"/>
            </a:xfrm>
            <a:prstGeom prst="rect">
              <a:avLst/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984a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86520" y="2590920"/>
              <a:ext cx="152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333300"/>
                  </a:solidFill>
                  <a:latin typeface="Times New Roman"/>
                </a:rPr>
                <a:t>網路安全機制</a:t>
              </a:r>
              <a:endParaRPr b="0" lang="en-US" sz="1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029200" y="4038480"/>
            <a:ext cx="2590920" cy="0"/>
          </a:xfrm>
          <a:prstGeom prst="line">
            <a:avLst/>
          </a:prstGeom>
          <a:ln w="5724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98B6-9261-45A8-93DE-CA7DB8BDC54D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649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標楷體"/>
              </a:rPr>
              <a:t>肆、卸貨准單無紙化</a:t>
            </a:r>
            <a:r>
              <a:rPr b="1" lang="zh-TW" sz="2000" spc="-1" strike="noStrike">
                <a:solidFill>
                  <a:srgbClr val="cc0000"/>
                </a:solidFill>
                <a:latin typeface="標楷體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標楷體"/>
              </a:rPr>
              <a:t>一</a:t>
            </a:r>
            <a:r>
              <a:rPr b="1" lang="zh-TW" sz="2000" spc="-1" strike="noStrike">
                <a:solidFill>
                  <a:srgbClr val="cc0000"/>
                </a:solidFill>
                <a:latin typeface="標楷體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一、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卸貨准單申請作業及範圍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簡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5157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）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762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二、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傳輸卸貨准單訊息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簡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5158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）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7621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三、不再列印書面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准單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7621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四、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卸貨准單更正作業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7621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五、海關處理記錄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76212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一）查緝註記作業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6212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二）押運註記作業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3" name="一中心5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412740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8054-5CCF-416F-8597-1D9F9FFEE8F2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標楷體"/>
              </a:rPr>
              <a:t>肆、卸貨准單無紙化</a:t>
            </a:r>
            <a:r>
              <a:rPr b="1" lang="zh-TW" sz="2000" spc="-1" strike="noStrike">
                <a:solidFill>
                  <a:srgbClr val="cc0000"/>
                </a:solidFill>
                <a:latin typeface="標楷體"/>
              </a:rPr>
              <a:t>(</a:t>
            </a:r>
            <a:r>
              <a:rPr b="1" lang="zh-TW" sz="2000" spc="-1" strike="noStrike">
                <a:solidFill>
                  <a:srgbClr val="cc0000"/>
                </a:solidFill>
                <a:latin typeface="標楷體"/>
              </a:rPr>
              <a:t>二</a:t>
            </a:r>
            <a:r>
              <a:rPr b="1" lang="zh-TW" sz="2000" spc="-1" strike="noStrike">
                <a:solidFill>
                  <a:srgbClr val="cc0000"/>
                </a:solidFill>
                <a:latin typeface="標楷體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五、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卸貨准單稽核作業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六、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「櫃動庫」查詢、列印准單資料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七、「櫃動庫」登錄進口貨櫃作業完畢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八、封條規費之徵收作業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6" name="二中心1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4267080" cy="2882880"/>
          </a:xfrm>
          <a:prstGeom prst="rect">
            <a:avLst/>
          </a:prstGeom>
          <a:ln w="0">
            <a:noFill/>
          </a:ln>
        </p:spPr>
      </p:pic>
      <p:pic>
        <p:nvPicPr>
          <p:cNvPr id="227" name="二中心12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4267440" cy="29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78D6-FF6C-49C4-8E1D-C6A6B00DB20E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標楷體"/>
              </a:rPr>
              <a:t>伍、進口貨櫃動態查核系統</a:t>
            </a:r>
            <a:r>
              <a:rPr b="1" lang="zh-TW" sz="2400" spc="-1" strike="noStrike">
                <a:solidFill>
                  <a:srgbClr val="333300"/>
                </a:solidFill>
                <a:latin typeface="標楷體"/>
              </a:rPr>
              <a:t>(</a:t>
            </a:r>
            <a:r>
              <a:rPr b="1" lang="zh-TW" sz="2400" spc="-1" strike="noStrike">
                <a:solidFill>
                  <a:srgbClr val="333300"/>
                </a:solidFill>
                <a:latin typeface="標楷體"/>
              </a:rPr>
              <a:t>一</a:t>
            </a:r>
            <a:r>
              <a:rPr b="1" lang="zh-TW" sz="2400" spc="-1" strike="noStrike">
                <a:solidFill>
                  <a:srgbClr val="333300"/>
                </a:solidFill>
                <a:latin typeface="標楷體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9220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一、傳送准單訊息、貨櫃清單訊息、放行訊息、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查緝、押運註記訊息至櫃動庫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二、查詢或更正櫃動庫之准單、進口貨櫃清單資料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三、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接收准單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簡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5158)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、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 進口貨櫃清單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簡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5166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及放行貨物通知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簡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5116S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、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5302S)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等訊息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四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、分送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准單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、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 進口貨櫃清單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五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、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傳送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貨櫃動態錯誤訊息回應、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分送異常狀況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    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  <a:ea typeface="標楷體"/>
              </a:rPr>
              <a:t>通知訊息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11BE-A09F-4A6A-A844-3175D82B2F1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37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標楷體"/>
              </a:rPr>
              <a:t>伍、進口貨櫃動態查核系統</a:t>
            </a:r>
            <a:r>
              <a:rPr b="1" lang="zh-TW" sz="2400" spc="-1" strike="noStrike">
                <a:solidFill>
                  <a:srgbClr val="333300"/>
                </a:solidFill>
                <a:latin typeface="標楷體"/>
              </a:rPr>
              <a:t>(</a:t>
            </a:r>
            <a:r>
              <a:rPr b="1" lang="zh-TW" sz="2400" spc="-1" strike="noStrike">
                <a:solidFill>
                  <a:srgbClr val="333300"/>
                </a:solidFill>
                <a:latin typeface="標楷體"/>
              </a:rPr>
              <a:t>二</a:t>
            </a:r>
            <a:r>
              <a:rPr b="1" lang="zh-TW" sz="2400" spc="-1" strike="noStrike">
                <a:solidFill>
                  <a:srgbClr val="333300"/>
                </a:solidFill>
                <a:latin typeface="標楷體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六、港務局、運輸業者、貨櫃集散站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接收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准單、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貨櫃清單並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傳輸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貨櫃動態訊息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七、港務局、運輸業者、貨櫃集散站使用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網際網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路連線查詢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「櫃動庫」資料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八、保稅倉庫、加工出口區、科學園區、物流中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心、免稅商店及其他業者使用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網際網路連線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查詢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准單、貨櫃清單、放行訊息及線上鍵輸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登錄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貨櫃動態訊息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A3883-84F9-4CA3-8CEE-68233169FCA9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08:38:28Z</dcterms:created>
  <dc:creator>tai</dc:creator>
  <dc:description/>
  <dc:language>en-US</dc:language>
  <cp:lastModifiedBy>關貿網路股份有限公司</cp:lastModifiedBy>
  <cp:lastPrinted>2001-04-11T01:21:17Z</cp:lastPrinted>
  <dcterms:modified xsi:type="dcterms:W3CDTF">2001-09-25T01:06:39Z</dcterms:modified>
  <cp:revision>419</cp:revision>
  <dc:subject/>
  <dc:title>無投影片標題</dc:title>
</cp:coreProperties>
</file>