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D1B-8BC5-4FE9-B8DA-FBD8B751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DDD-F47A-4B6A-A278-3F0CEEED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33C-B429-43AD-BD27-0C887C26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48F-3661-4C4F-94D3-17F77683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9B0-42E5-4EB1-AE4E-ABEE9C2A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304-0135-4347-9780-76742F1D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A15-BBFE-4233-BC6E-A4DA9118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FDB-86BC-4981-BC25-C4DEFF2B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6E6-5F17-4708-9088-0C77C226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598-7A56-481C-8C89-AC213C6E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D31-FC9F-43B0-B284-27657DBC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D91-9751-407D-A0EA-4492E82F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9A82-87B0-43FC-A67F-7880EA7B165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ptedge%20-1" descr=""/>
          <p:cNvPicPr/>
          <p:nvPr/>
        </p:nvPicPr>
        <p:blipFill>
          <a:blip r:embed="rId2"/>
          <a:stretch/>
        </p:blipFill>
        <p:spPr>
          <a:xfrm>
            <a:off x="0" y="6045120"/>
            <a:ext cx="9144000" cy="81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1523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Times New Roman"/>
                <a:ea typeface="標楷體"/>
              </a:rPr>
              <a:t>櫃動系統申請及測試作業說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報告人：關貿網路公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華民國九十年九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457200"/>
            <a:ext cx="876312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貨櫃場傳送出站動態測試個案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船掛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90U49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卸存地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640B24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60W640B2444OOLU3439870             FG900216122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1          54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60W640B2444TRLU4600633             FG900216122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2          54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380880"/>
            <a:ext cx="8763120" cy="79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貨櫃場接收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5166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測試個案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船掛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90U491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卸存地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KHH0650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19005N        90U491C6KM9 KHH0660WKHH0650C        0000007000090U491KHH0650C2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9551GATU8085050 KHH0650C45001                    CNDLC   3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9551OOLU5522601 KHH0650C45001                    CNDLC   3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9551OOLU5635249 KHH0650C45001                    CNDLC   3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9551OOLU5655219 KHH0650C45001                    CNDLC   3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9551OOLU5675690 KHH0650C45001                    CNDLC   3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9551OOLU5698355 KHH0650C45001                    CNDLC   3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9551TGHU7234266 KHH0650C45001                    CNDLC   3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380880"/>
            <a:ext cx="8763120" cy="9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貨櫃場接收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5166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測試個案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船掛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90U491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卸存地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KHH0650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50C        GATU8085050             FG900216113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3          5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50C        OOLU5522601             FG900216113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4          5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50C        OOLU5635249             FG900216113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5          5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50C        OOLU5655219             FG900216113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6          5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50C        OOLU5675690             FG900216113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7          5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50C        OOLU5698355             FG900216113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8          5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50C        TGHU7234266             FG900216113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9          5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79560" y="533520"/>
            <a:ext cx="2487600" cy="76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四</a:t>
            </a: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. </a:t>
            </a: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結    語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523880"/>
            <a:ext cx="8001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cc"/>
                </a:solidFill>
                <a:latin typeface="Times New Roman"/>
                <a:ea typeface=""/>
              </a:rPr>
              <a:t>1.</a:t>
            </a:r>
            <a:r>
              <a:rPr b="0" lang="zh-TW" sz="3000" spc="-1" strike="noStrike">
                <a:solidFill>
                  <a:srgbClr val="0000cc"/>
                </a:solidFill>
                <a:latin typeface="Times New Roman"/>
              </a:rPr>
              <a:t>進口貨櫃動態查核系統網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TW" sz="3000" spc="-1" strike="noStrike">
                <a:solidFill>
                  <a:srgbClr val="0000cc"/>
                </a:solidFill>
                <a:latin typeface="Times New Roman"/>
              </a:rPr>
              <a:t>https://imct.tradevan.com.tw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0" lang="zh-TW" sz="3000" spc="-1" strike="noStrike">
                <a:solidFill>
                  <a:srgbClr val="0000cc"/>
                </a:solidFill>
                <a:latin typeface="Times New Roman"/>
              </a:rPr>
              <a:t>檔案下載之使用者代碼及密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使用者代碼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TW" sz="2400" spc="-1" strike="noStrike">
                <a:solidFill>
                  <a:srgbClr val="0000cc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使用者密碼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TW" sz="2400" spc="-1" strike="noStrike">
                <a:solidFill>
                  <a:srgbClr val="0000cc"/>
                </a:solidFill>
                <a:latin typeface="Times New Roman"/>
              </a:rPr>
              <a:t>container</a:t>
            </a:r>
            <a:r>
              <a:rPr b="1" lang="zh-TW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cc"/>
                </a:solidFill>
                <a:latin typeface="Times New Roman"/>
                <a:ea typeface=""/>
              </a:rPr>
              <a:t>3.</a:t>
            </a:r>
            <a:r>
              <a:rPr b="0" lang="zh-TW" sz="3000" spc="-1" strike="noStrike">
                <a:solidFill>
                  <a:srgbClr val="0000cc"/>
                </a:solidFill>
                <a:latin typeface="絡遺羹"/>
                <a:ea typeface="絡遺羹"/>
              </a:rPr>
              <a:t>本網頁係採用</a:t>
            </a:r>
            <a:r>
              <a:rPr b="0" lang="zh-TW" sz="3000" spc="-1" strike="noStrike">
                <a:solidFill>
                  <a:srgbClr val="0000cc"/>
                </a:solidFill>
                <a:latin typeface="絡遺羹"/>
                <a:ea typeface="絡遺羹"/>
              </a:rPr>
              <a:t>CSS</a:t>
            </a:r>
            <a:r>
              <a:rPr b="0" lang="zh-TW" sz="3000" spc="-1" strike="noStrike">
                <a:solidFill>
                  <a:srgbClr val="0000cc"/>
                </a:solidFill>
                <a:latin typeface="絡遺羹"/>
                <a:ea typeface="絡遺羹"/>
              </a:rPr>
              <a:t>樣式表設計，建議請使用</a:t>
            </a:r>
            <a:r>
              <a:rPr b="0" lang="zh-TW" sz="3000" spc="-1" strike="noStrike">
                <a:solidFill>
                  <a:srgbClr val="0000cc"/>
                </a:solidFill>
                <a:latin typeface="絡遺羹"/>
                <a:ea typeface="絡遺羹"/>
              </a:rPr>
              <a:t>MicroSoft IE 5.0 (</a:t>
            </a:r>
            <a:r>
              <a:rPr b="0" lang="zh-TW" sz="3000" spc="-1" strike="noStrike">
                <a:solidFill>
                  <a:srgbClr val="0000cc"/>
                </a:solidFill>
                <a:latin typeface="絡遺羹"/>
                <a:ea typeface="絡遺羹"/>
              </a:rPr>
              <a:t>含</a:t>
            </a:r>
            <a:r>
              <a:rPr b="0" lang="zh-TW" sz="3000" spc="-1" strike="noStrike">
                <a:solidFill>
                  <a:srgbClr val="0000cc"/>
                </a:solidFill>
                <a:latin typeface="絡遺羹"/>
                <a:ea typeface="絡遺羹"/>
              </a:rPr>
              <a:t>)</a:t>
            </a:r>
            <a:r>
              <a:rPr b="0" lang="zh-TW" sz="3000" spc="-1" strike="noStrike">
                <a:solidFill>
                  <a:srgbClr val="0000cc"/>
                </a:solidFill>
                <a:latin typeface="絡遺羹"/>
                <a:ea typeface="絡遺羹"/>
              </a:rPr>
              <a:t>以上之版本與</a:t>
            </a:r>
            <a:r>
              <a:rPr b="0" lang="zh-TW" sz="3000" spc="-1" strike="noStrike">
                <a:solidFill>
                  <a:srgbClr val="0000cc"/>
                </a:solidFill>
                <a:latin typeface="絡遺羹"/>
                <a:ea typeface="絡遺羹"/>
              </a:rPr>
              <a:t>800*600 </a:t>
            </a:r>
            <a:r>
              <a:rPr b="0" lang="zh-TW" sz="3000" spc="-1" strike="noStrike">
                <a:solidFill>
                  <a:srgbClr val="0000cc"/>
                </a:solidFill>
                <a:latin typeface="絡遺羹"/>
                <a:ea typeface="絡遺羹"/>
              </a:rPr>
              <a:t>螢幕解析度瀏覽本網頁。</a:t>
            </a:r>
            <a:r>
              <a:rPr b="0" lang="zh-TW" sz="3000" spc="-1" strike="noStrike">
                <a:solidFill>
                  <a:srgbClr val="0000cc"/>
                </a:solidFill>
                <a:latin typeface="絡遺羹"/>
                <a:ea typeface="絡遺羹"/>
              </a:rPr>
              <a:t>http://www.microsoft.com/taiwan/products/ie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523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4600" y="685800"/>
            <a:ext cx="1289880" cy="76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題   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981080"/>
            <a:ext cx="4952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一、申請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二、測試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三、模擬測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四、結  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42960" y="685800"/>
            <a:ext cx="2513520" cy="76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一</a:t>
            </a: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.</a:t>
            </a: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申請流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05120"/>
            <a:ext cx="5181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  <a:ea typeface=""/>
              </a:rPr>
              <a:t>1.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申請作業</a:t>
            </a:r>
            <a:r>
              <a:rPr b="0" lang="zh-TW" sz="24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800080"/>
                </a:solidFill>
                <a:latin typeface="Times New Roman"/>
              </a:rPr>
              <a:t>詳見檔案下載及分享之“系統連線申服務申請表”</a:t>
            </a:r>
            <a:r>
              <a:rPr b="0" lang="zh-TW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如何取得表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表格填寫項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表格寄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核證作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核給證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88600" y="685800"/>
            <a:ext cx="2434320" cy="76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二</a:t>
            </a: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.</a:t>
            </a: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測試程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2057400"/>
            <a:ext cx="6629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  <a:ea typeface=""/>
              </a:rPr>
              <a:t>1.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海關與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T/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-5166(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進口貨櫃清單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含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GDP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及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  <a:ea typeface=""/>
              </a:rPr>
              <a:t>2.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T/V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與業者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港務局、貨櫃場及航商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-5166 (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進口貨櫃清單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貨櫃動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-ASP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系統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第二階段</a:t>
            </a: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86240" y="457200"/>
            <a:ext cx="2434320" cy="76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三</a:t>
            </a: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.</a:t>
            </a: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模擬測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1523880"/>
            <a:ext cx="7162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Times New Roman"/>
              </a:rPr>
              <a:t>模擬測試示意架構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3124080"/>
          <a:ext cx="15242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24080"/>
                    <a:ext cx="15242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05320" y="3048120"/>
          <a:ext cx="1523880" cy="18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048120"/>
                    <a:ext cx="1523880" cy="18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133720" y="3809880"/>
          <a:ext cx="15238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809880"/>
                    <a:ext cx="1523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010280" y="2209680"/>
          <a:ext cx="101628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2209680"/>
                    <a:ext cx="1016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010280" y="3505320"/>
          <a:ext cx="1016280" cy="78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3505320"/>
                    <a:ext cx="10162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4952880"/>
          <a:ext cx="1016280" cy="78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4952880"/>
                    <a:ext cx="101628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flipV="1">
            <a:off x="5257800" y="2666520"/>
            <a:ext cx="17524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39625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495680"/>
            <a:ext cx="182880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257800" y="2895480"/>
            <a:ext cx="18288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81480" y="41148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315200" y="5638680"/>
          <a:ext cx="493560" cy="219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15200" y="5638680"/>
                    <a:ext cx="49356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 flipH="1" flipV="1">
            <a:off x="5105520" y="4648320"/>
            <a:ext cx="16761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2743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(2)51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32004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出站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(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657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(4)51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41148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進站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(F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4572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(6)51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8769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(7) 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進站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(F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2120"/>
            <a:ext cx="899172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海關傳送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5166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測試個案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船掛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90U4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XI01900216104216703I0201        90U491KHH0660WBC005N        C6KM9 90021600000290000OOCL KYUSHU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台灣東方海外股份有限公司高雄分                              東方海外  </a:t>
            </a: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90021613058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XI02900216104218213I0156        90U491640B2444        0100020000</a:t>
            </a: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實櫃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00000000   0000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XI02900216104218373I0156        90U491KHH0650C        0100090000</a:t>
            </a: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實櫃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00000000   00000000000                     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XI03900216104219683I0098        90U4915303OOLU3439870 640B244422001                         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XI03900216104219693I0098        90U4915304TRLU4600633 640B244443001                         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XI03900216104219713I0098        90U4919551GATU8085050 KHH0650C45001                      CNDLC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XI03900216104219723I0098        90U4919551OOLU5522601 KHH0650C45001                      CNDLC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XI03900216104219733I0098        90U4919551OOLU5635249 KHH0650C45001                      CNDLC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XI03900216104219743I0098        90U4919551OOLU5655219 KHH0650C45001                      CNDLC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XI03900216104219753I0098        90U4919551OOLU5675690 KHH0650C45001                      CNDLC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XI03900216104219763I0098        90U4919551OOLU5698355 KHH0650C45001                      CNDLC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細明體"/>
                <a:ea typeface="細明體"/>
              </a:rPr>
              <a:t>XI03900216104219773I0098        90U4919551TGHU7234266 KHH0650C45001                      CNDLC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762120"/>
            <a:ext cx="8763120" cy="9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港務局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船公司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接收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5166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測試個案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船掛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90U4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19005N        90U491C6KM9 KHH0660W640B2444        0000002000090U491640B24442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5303OOLU3439870 640B244422001                            1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5304TRLU4600633 640B244443001                            1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19005N        90U491C6KM9 KHH0660WKHH0650C        0000007000090U491KHH0650C2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9551GATU8085050 KHH0650C45001                    CNDLC   3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9551OOLU5522601 KHH0650C45001                    CNDLC   3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9551OOLU5635249 KHH0650C45001                    CNDLC   3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9551OOLU5655219 KHH0650C45001                    CNDLC   3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9551OOLU5675690 KHH0650C45001                    CNDLC   3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9551OOLU5698355 KHH0650C45001                    CNDLC   3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9551TGHU7234266 KHH0650C45001                    CNDLC   3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609480"/>
            <a:ext cx="8763120" cy="110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港務局、船公司傳送出站動態測試個案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船掛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90U4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60W640B2444OOLU3439870             AK900216112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1          54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60W640B2444TRLU4600633             AK900216112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2          54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60WKHH0650CGATU8085050             AK900216112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3          5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60WKHH0650COOLU5522601             AK900216112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4          5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60WKHH0650COOLU5635249             AK900216112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5          5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60WKHH0650COOLU5655219             AK900216112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6          5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60WKHH0650COOLU5675690             AK900216112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7          5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60WKHH0650COOLU5698355             AK900216112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8          5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91KHH0660WKHH0650CTGHU7234266             AK900216112090U491QS004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A000000009          5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380880"/>
            <a:ext cx="87631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貨櫃場接收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5166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測試個案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船掛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90U491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卸存地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640B24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19005N        90U491C6KM9 KHH0660W640B2444        0000002000090U491640B24442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5303OOLU3439870 640B244422001                            1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細明體"/>
                <a:ea typeface="細明體"/>
              </a:rPr>
              <a:t>CT0290U4915304TRLU4600633 640B244443001                            1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6:47:02Z</dcterms:created>
  <dc:creator>user</dc:creator>
  <dc:description/>
  <dc:language>en-US</dc:language>
  <cp:lastModifiedBy>USER</cp:lastModifiedBy>
  <dcterms:modified xsi:type="dcterms:W3CDTF">2001-10-04T07:01:30Z</dcterms:modified>
  <cp:revision>28</cp:revision>
  <dc:subject/>
  <dc:title>PowerPoint 簡報</dc:title>
</cp:coreProperties>
</file>